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94634-E05E-416B-8F18-612960DDA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3DE86-44ED-46F0-A001-2E1660522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50873-F16A-4080-9E07-928733316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09168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336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09168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336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2C8EB-A2F2-40FF-B8F0-2ED18C2EE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10DB-A83E-4181-9BFB-16B895E71B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D02-15AE-46D4-9BD1-3571A8D2A1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167C-DF86-4B16-B07E-1A3C4B8468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998-4732-4F9D-96C7-A6972C9407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9A57-8D31-447B-BD2A-D35B078ABE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158560" y="-360"/>
            <a:ext cx="6985080" cy="46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6ED3-27E7-478A-A385-1A38D6DD00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F38E-E557-4762-AD14-5060CB9081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BB071-C1CE-4CDB-849F-AA75EC856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2E39-F041-4B94-9842-71CE050448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FECF-0DFA-4A51-8967-3069A08F0E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EA51-7567-4863-AA51-AD7C3820A4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E0D-16D7-4D0A-ADEC-8A72E9A6D9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9168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8336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09168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8336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8A41-60E5-4B09-8289-B10A62C6FD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B367D-D38C-4AEC-BFF3-B68FEB2723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E5289-6ED3-431F-9214-BFD819D4D5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70878-85C5-494E-9CD4-6D9E32BAA4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E5BC7-1DEA-4169-A221-6046C399AE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869FA-1746-45CB-A42A-7703C0855C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2A81E-1A05-4777-AF4B-B375E99C9E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158560" y="-360"/>
            <a:ext cx="6985080" cy="46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7DE0E-6CDA-4FA9-8808-381B0745B6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44DF6-5077-4956-9DBD-E54951924F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F9BAB-A37E-4758-9DB0-38178F85AB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C1DC6-D2FB-46A4-A3B1-62D3CC62AD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F7B0B-7417-4B51-9770-6162F00A1C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72DDC-5ECA-4421-86C4-C3637A15ED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09168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8336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09168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8336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A8866-D721-4D3B-80FF-2EDD7D0F7B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7FD10D-C80B-4826-8F7D-78CC9931A3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A26D0F-B482-4B16-8FED-389FE3749DF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3CB227-0B13-4B57-918C-9FE11336E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E7F8A-CE31-410F-A58F-3E285AA3CCB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2B2644-943B-49BE-95FF-8E1368CFCE0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D31D44-E16B-48DD-855C-AB85465843F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158560" y="-360"/>
            <a:ext cx="6985080" cy="46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A8CE89-E73B-4ACF-B874-47BEB9BC520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21DC08-7074-4818-8B1B-FFAF82A7D5A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ADD2F8-C6F1-40F1-A38B-BF080B6B3E5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EE5ED0-1201-4606-B594-15428889E34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ACFBC9-92F8-4575-8AD6-63504EE87D7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C06B75-D973-4D7B-B6E9-CB61ADD0E3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9168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8336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09168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8336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B71E71-180D-4B9F-AA94-594D862A4AE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2B100-61D5-4922-92DC-96BC62C4D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C9ED8-ABC3-4752-82F6-EF453489805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8511C-DACD-4C06-AD9E-1FFEBA3250F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B2264-82E5-4B43-949C-3151982456E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93F5A-1579-4039-AECD-9EBCD11462C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F74E4-FED4-40CB-9C1C-67E769999ED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2158560" y="-360"/>
            <a:ext cx="6985080" cy="46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5C56F-2E1A-4222-876C-62782B94D8A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01121-392D-463D-809A-50397CBE7EF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94170-8FFA-4B55-884D-F8EE5AC5F40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13A17-DB66-4D02-A530-EFA145110FB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BD893-D24F-4E67-B513-854123B8D37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19DB0-DA78-4676-A789-A711FA412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158560" y="-360"/>
            <a:ext cx="6985080" cy="46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4B88B-FB4E-496F-839C-91FAE70E7CB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09168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8336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09168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18336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80AD6-727B-42CC-AAC1-FB39945B413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9CD5EE-FD1E-45B8-A3D3-708F2C15F97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92BEED-5A0A-44F1-B116-F5B10D4A374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95948B-1063-473E-BDFE-6067B840934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8BB411-70E0-4964-A280-770C3331096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0C840B-F01C-4E35-B0DF-8F0F14730B2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2158560" y="-360"/>
            <a:ext cx="6985080" cy="46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AD1701-82B4-44AC-98AE-B7C4BFC0759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D988EA-EF03-488B-9DC2-20E9C712D40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5D0037-67D9-4AE9-8471-F6DC22A094E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B9117B-67DD-493B-A5D3-CA3D82382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16CF3-74EA-43BA-9672-59839EF1D88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9613B5-B875-41B9-971A-23656059A96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39A9A2-C5E3-4363-AA31-ECABEF0108E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9168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8336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09168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18336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FD591D-0B23-4B7E-AF4A-DA123EF2376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2158560" y="-360"/>
            <a:ext cx="6985080" cy="46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5DF2F-3184-4B9B-9406-AEF6D52594E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09168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18336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09168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18336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EFDE0-901C-4EDE-B028-B6D73461385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2158560" y="-360"/>
            <a:ext cx="6985080" cy="46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0" y="18781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5760" y="107964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85760" y="1878120"/>
            <a:ext cx="446220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09168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83360" y="107964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09168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183360" y="1878120"/>
            <a:ext cx="2944080" cy="7290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 fontScale="55000"/>
          </a:bodyPr>
          <a:p>
            <a:pPr marL="1886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Click to edit the outline text format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1" marL="188640" indent="-18864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econd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2" marL="188640" indent="-1886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Third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3" marL="188640" indent="-18864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Four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4" marL="188640" indent="-18864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Fif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5" marL="188640" indent="-18864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ix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6" marL="188640" indent="-18864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even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6318360"/>
            <a:ext cx="9144000" cy="539640"/>
            <a:chOff x="0" y="6318360"/>
            <a:chExt cx="9144000" cy="539640"/>
          </a:xfrm>
        </p:grpSpPr>
        <p:sp>
          <p:nvSpPr>
            <p:cNvPr id="2" name="Rectangle 4"/>
            <p:cNvSpPr/>
            <p:nvPr/>
          </p:nvSpPr>
          <p:spPr>
            <a:xfrm>
              <a:off x="0" y="6318360"/>
              <a:ext cx="1936800" cy="5396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1943280" y="6318360"/>
              <a:ext cx="720072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1936800" y="6318360"/>
              <a:ext cx="0" cy="5396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" name="Rectangle 7"/>
          <p:cNvSpPr/>
          <p:nvPr/>
        </p:nvSpPr>
        <p:spPr>
          <a:xfrm>
            <a:off x="0" y="0"/>
            <a:ext cx="1936800" cy="1079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943280" y="0"/>
            <a:ext cx="7200720" cy="1079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Line 9"/>
          <p:cNvSpPr/>
          <p:nvPr/>
        </p:nvSpPr>
        <p:spPr>
          <a:xfrm>
            <a:off x="1936800" y="0"/>
            <a:ext cx="0" cy="10796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2144520" y="6362280"/>
            <a:ext cx="67690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 разработке Стратегии управления активами ГРО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Line 14"/>
          <p:cNvSpPr/>
          <p:nvPr/>
        </p:nvSpPr>
        <p:spPr>
          <a:xfrm>
            <a:off x="0" y="631512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Line 15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" name="Picture 16" descr="TransGazKazan"/>
          <p:cNvPicPr/>
          <p:nvPr/>
        </p:nvPicPr>
        <p:blipFill>
          <a:blip r:embed="rId2"/>
          <a:stretch/>
        </p:blipFill>
        <p:spPr>
          <a:xfrm>
            <a:off x="168120" y="128520"/>
            <a:ext cx="1560600" cy="76824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204840" y="6362280"/>
            <a:ext cx="14875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66C9-5621-49BB-89CF-137903D1960F}" type="slidenum">
              <a:rPr b="1" lang="en-US" sz="2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 fontScale="55000"/>
          </a:bodyPr>
          <a:p>
            <a:pPr marL="1886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Click to edit the outline text format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1" marL="188640" indent="-18864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econd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2" marL="188640" indent="-1886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Third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3" marL="188640" indent="-18864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Four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4" marL="188640" indent="-18864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Fif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5" marL="188640" indent="-18864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ix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6" marL="188640" indent="-18864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even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1940040" y="2606760"/>
            <a:ext cx="7203960" cy="3713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0" y="6318360"/>
            <a:ext cx="9144000" cy="539640"/>
            <a:chOff x="0" y="6318360"/>
            <a:chExt cx="9144000" cy="539640"/>
          </a:xfrm>
        </p:grpSpPr>
        <p:sp>
          <p:nvSpPr>
            <p:cNvPr id="53" name="Rectangle 4"/>
            <p:cNvSpPr/>
            <p:nvPr/>
          </p:nvSpPr>
          <p:spPr>
            <a:xfrm>
              <a:off x="0" y="6318360"/>
              <a:ext cx="1936800" cy="5396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943280" y="6318360"/>
              <a:ext cx="720072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" name="Line 6"/>
            <p:cNvSpPr/>
            <p:nvPr/>
          </p:nvSpPr>
          <p:spPr>
            <a:xfrm>
              <a:off x="1936800" y="6318360"/>
              <a:ext cx="0" cy="5396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6" name="Rectangle 7"/>
          <p:cNvSpPr/>
          <p:nvPr/>
        </p:nvSpPr>
        <p:spPr>
          <a:xfrm>
            <a:off x="0" y="0"/>
            <a:ext cx="1936800" cy="1079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1943280" y="0"/>
            <a:ext cx="7200720" cy="1079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Line 9"/>
          <p:cNvSpPr/>
          <p:nvPr/>
        </p:nvSpPr>
        <p:spPr>
          <a:xfrm>
            <a:off x="1936800" y="0"/>
            <a:ext cx="0" cy="10796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3"/>
          </p:nvPr>
        </p:nvSpPr>
        <p:spPr>
          <a:xfrm>
            <a:off x="204840" y="6362280"/>
            <a:ext cx="14875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13E1-EFFE-46F1-AB1A-20DF40DEF20A}" type="slidenum">
              <a:rPr b="1" lang="en-US" sz="2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4"/>
          </p:nvPr>
        </p:nvSpPr>
        <p:spPr>
          <a:xfrm>
            <a:off x="2144520" y="6362280"/>
            <a:ext cx="67690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ЗВАНИЕ ПРЕЗЕНТАЦИ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Line 21"/>
          <p:cNvSpPr/>
          <p:nvPr/>
        </p:nvSpPr>
        <p:spPr>
          <a:xfrm>
            <a:off x="0" y="631512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4" name="Picture 23" descr="TransGazKazan"/>
          <p:cNvPicPr/>
          <p:nvPr/>
        </p:nvPicPr>
        <p:blipFill>
          <a:blip r:embed="rId2"/>
          <a:stretch/>
        </p:blipFill>
        <p:spPr>
          <a:xfrm>
            <a:off x="168120" y="128520"/>
            <a:ext cx="156060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0" y="1079640"/>
            <a:ext cx="9144000" cy="152856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 fontScale="55000"/>
          </a:bodyPr>
          <a:p>
            <a:pPr marL="1886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Click to edit the outline text format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1" marL="188640" indent="-18864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econd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2" marL="188640" indent="-1886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Third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3" marL="188640" indent="-18864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Four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4" marL="188640" indent="-18864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Fif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5" marL="188640" indent="-18864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ix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6" marL="188640" indent="-18864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even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0" y="2604960"/>
            <a:ext cx="9144000" cy="37134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0" y="6318360"/>
            <a:ext cx="9144000" cy="539640"/>
            <a:chOff x="0" y="6318360"/>
            <a:chExt cx="9144000" cy="539640"/>
          </a:xfrm>
        </p:grpSpPr>
        <p:sp>
          <p:nvSpPr>
            <p:cNvPr id="104" name="Rectangle 4"/>
            <p:cNvSpPr/>
            <p:nvPr/>
          </p:nvSpPr>
          <p:spPr>
            <a:xfrm>
              <a:off x="0" y="6318360"/>
              <a:ext cx="1936800" cy="5396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" name="Rectangle 5"/>
            <p:cNvSpPr/>
            <p:nvPr/>
          </p:nvSpPr>
          <p:spPr>
            <a:xfrm>
              <a:off x="1943280" y="6318360"/>
              <a:ext cx="720072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" name="Line 6"/>
            <p:cNvSpPr/>
            <p:nvPr/>
          </p:nvSpPr>
          <p:spPr>
            <a:xfrm>
              <a:off x="1936800" y="6318360"/>
              <a:ext cx="0" cy="5396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07" name="Rectangle 7"/>
          <p:cNvSpPr/>
          <p:nvPr/>
        </p:nvSpPr>
        <p:spPr>
          <a:xfrm>
            <a:off x="0" y="0"/>
            <a:ext cx="1936800" cy="1079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943280" y="0"/>
            <a:ext cx="7200720" cy="1079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1936800" y="0"/>
            <a:ext cx="0" cy="10796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5"/>
          </p:nvPr>
        </p:nvSpPr>
        <p:spPr>
          <a:xfrm>
            <a:off x="204840" y="6362280"/>
            <a:ext cx="14875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BDC7-1BA0-424B-B0B2-8C47A3079789}" type="slidenum">
              <a:rPr b="1" lang="en-US" sz="2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6"/>
          </p:nvPr>
        </p:nvSpPr>
        <p:spPr>
          <a:xfrm>
            <a:off x="2144520" y="6362280"/>
            <a:ext cx="67690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ЗВАНИЕ ПРЕЗЕНТАЦИ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755640" y="7605720"/>
            <a:ext cx="410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0" y="631512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16" name="Picture 23" descr="TransGazKazan"/>
          <p:cNvPicPr/>
          <p:nvPr/>
        </p:nvPicPr>
        <p:blipFill>
          <a:blip r:embed="rId2"/>
          <a:stretch/>
        </p:blipFill>
        <p:spPr>
          <a:xfrm>
            <a:off x="168120" y="128520"/>
            <a:ext cx="156060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0" y="107964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 fontScale="33000"/>
          </a:bodyPr>
          <a:p>
            <a:pPr marL="11304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Click to edit the outline text format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1" marL="113040" indent="-1130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econd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2" marL="113040" indent="-113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Third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3" marL="113040" indent="-1130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Four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4" marL="113040" indent="-11304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Fif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5" marL="113040" indent="-11304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ix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6" marL="113040" indent="-11304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even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0" y="2158920"/>
            <a:ext cx="9144000" cy="4160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0" y="6318360"/>
            <a:ext cx="9144000" cy="539640"/>
            <a:chOff x="0" y="6318360"/>
            <a:chExt cx="9144000" cy="539640"/>
          </a:xfrm>
        </p:grpSpPr>
        <p:sp>
          <p:nvSpPr>
            <p:cNvPr id="156" name="Rectangle 4"/>
            <p:cNvSpPr/>
            <p:nvPr/>
          </p:nvSpPr>
          <p:spPr>
            <a:xfrm>
              <a:off x="0" y="6318360"/>
              <a:ext cx="1936800" cy="5396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" name="Rectangle 5"/>
            <p:cNvSpPr/>
            <p:nvPr/>
          </p:nvSpPr>
          <p:spPr>
            <a:xfrm>
              <a:off x="1943280" y="6318360"/>
              <a:ext cx="720072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" name="Line 6"/>
            <p:cNvSpPr/>
            <p:nvPr/>
          </p:nvSpPr>
          <p:spPr>
            <a:xfrm>
              <a:off x="1936800" y="6318360"/>
              <a:ext cx="0" cy="5396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59" name="Rectangle 7"/>
          <p:cNvSpPr/>
          <p:nvPr/>
        </p:nvSpPr>
        <p:spPr>
          <a:xfrm>
            <a:off x="0" y="0"/>
            <a:ext cx="1936800" cy="1079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1943280" y="0"/>
            <a:ext cx="7200720" cy="1079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1936800" y="0"/>
            <a:ext cx="0" cy="10796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7"/>
          </p:nvPr>
        </p:nvSpPr>
        <p:spPr>
          <a:xfrm>
            <a:off x="204840" y="6362280"/>
            <a:ext cx="14875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DA77-4967-4A94-BF23-726945BD526A}" type="slidenum">
              <a:rPr b="1" lang="en-US" sz="2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8"/>
          </p:nvPr>
        </p:nvSpPr>
        <p:spPr>
          <a:xfrm>
            <a:off x="2144520" y="6362280"/>
            <a:ext cx="67690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ЗВАНИЕ ПРЕЗЕНТАЦИ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755640" y="7605720"/>
            <a:ext cx="410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Line 24"/>
          <p:cNvSpPr/>
          <p:nvPr/>
        </p:nvSpPr>
        <p:spPr>
          <a:xfrm>
            <a:off x="0" y="631512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" name="Line 25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8" name="Picture 26" descr="TransGazKazan"/>
          <p:cNvPicPr/>
          <p:nvPr/>
        </p:nvPicPr>
        <p:blipFill>
          <a:blip r:embed="rId2"/>
          <a:stretch/>
        </p:blipFill>
        <p:spPr>
          <a:xfrm>
            <a:off x="168120" y="128520"/>
            <a:ext cx="156060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935000" y="1077840"/>
            <a:ext cx="7209000" cy="52624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0" y="6318360"/>
            <a:ext cx="9144000" cy="539640"/>
            <a:chOff x="0" y="6318360"/>
            <a:chExt cx="9144000" cy="539640"/>
          </a:xfrm>
        </p:grpSpPr>
        <p:sp>
          <p:nvSpPr>
            <p:cNvPr id="207" name="Rectangle 4"/>
            <p:cNvSpPr/>
            <p:nvPr/>
          </p:nvSpPr>
          <p:spPr>
            <a:xfrm>
              <a:off x="0" y="6318360"/>
              <a:ext cx="1936800" cy="5396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8" name="Rectangle 5"/>
            <p:cNvSpPr/>
            <p:nvPr/>
          </p:nvSpPr>
          <p:spPr>
            <a:xfrm>
              <a:off x="1943280" y="6318360"/>
              <a:ext cx="720072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9" name="Line 6"/>
            <p:cNvSpPr/>
            <p:nvPr/>
          </p:nvSpPr>
          <p:spPr>
            <a:xfrm>
              <a:off x="1936800" y="6318360"/>
              <a:ext cx="0" cy="5396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10" name="Rectangle 7"/>
          <p:cNvSpPr/>
          <p:nvPr/>
        </p:nvSpPr>
        <p:spPr>
          <a:xfrm>
            <a:off x="0" y="0"/>
            <a:ext cx="1936800" cy="1079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1943280" y="0"/>
            <a:ext cx="7200720" cy="1079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1936800" y="0"/>
            <a:ext cx="0" cy="10796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0" y="1082160"/>
            <a:ext cx="1936800" cy="52261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 fontScale="34000"/>
          </a:bodyPr>
          <a:p>
            <a:pPr marL="1166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Click to edit the outline text format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1" marL="116640" indent="-11664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econd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2" marL="116640" indent="-1166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Third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3" marL="116640" indent="-11664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Four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4" marL="116640" indent="-11664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Fif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5" marL="116640" indent="-11664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ix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6" marL="116640" indent="-11664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even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9"/>
          </p:nvPr>
        </p:nvSpPr>
        <p:spPr>
          <a:xfrm>
            <a:off x="204840" y="6362280"/>
            <a:ext cx="14875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C581-29E0-4C08-89D8-10CE16DF408B}" type="slidenum">
              <a:rPr b="1" lang="en-US" sz="2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0"/>
          </p:nvPr>
        </p:nvSpPr>
        <p:spPr>
          <a:xfrm>
            <a:off x="2144520" y="6362280"/>
            <a:ext cx="67690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ЗВАНИЕ ПРЕЗЕНТАЦИ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755640" y="7605720"/>
            <a:ext cx="410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0" y="631512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9" name="Line 18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0" name="Picture 20" descr="TransGazKazan"/>
          <p:cNvPicPr/>
          <p:nvPr/>
        </p:nvPicPr>
        <p:blipFill>
          <a:blip r:embed="rId2"/>
          <a:stretch/>
        </p:blipFill>
        <p:spPr>
          <a:xfrm>
            <a:off x="168120" y="128520"/>
            <a:ext cx="156060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057480" y="1087560"/>
            <a:ext cx="6086520" cy="52513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0" y="6318360"/>
            <a:ext cx="9144000" cy="539640"/>
            <a:chOff x="0" y="6318360"/>
            <a:chExt cx="9144000" cy="539640"/>
          </a:xfrm>
        </p:grpSpPr>
        <p:sp>
          <p:nvSpPr>
            <p:cNvPr id="259" name="Rectangle 4"/>
            <p:cNvSpPr/>
            <p:nvPr/>
          </p:nvSpPr>
          <p:spPr>
            <a:xfrm>
              <a:off x="0" y="6318360"/>
              <a:ext cx="1936800" cy="5396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>
              <a:off x="1943280" y="6318360"/>
              <a:ext cx="720072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1" name="Line 6"/>
            <p:cNvSpPr/>
            <p:nvPr/>
          </p:nvSpPr>
          <p:spPr>
            <a:xfrm>
              <a:off x="1936800" y="6318360"/>
              <a:ext cx="0" cy="5396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62" name="Rectangle 7"/>
          <p:cNvSpPr/>
          <p:nvPr/>
        </p:nvSpPr>
        <p:spPr>
          <a:xfrm>
            <a:off x="0" y="0"/>
            <a:ext cx="1936800" cy="1079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1943280" y="0"/>
            <a:ext cx="7200720" cy="1079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1936800" y="0"/>
            <a:ext cx="0" cy="10796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0" y="1099800"/>
            <a:ext cx="3059280" cy="52261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 fontScale="57000"/>
          </a:bodyPr>
          <a:p>
            <a:pPr marL="1954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Click to edit the outline text format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1" marL="195480" indent="-1954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econd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2" marL="195480" indent="-1954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Third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3" marL="195480" indent="-1954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Four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4" marL="195480" indent="-1954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Fif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5" marL="195480" indent="-1954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ix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6" marL="195480" indent="-1954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Seventh Outline Level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1"/>
          </p:nvPr>
        </p:nvSpPr>
        <p:spPr>
          <a:xfrm>
            <a:off x="204840" y="6362280"/>
            <a:ext cx="14875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D0C4-E4E1-41F3-80A6-919F31BE13CE}" type="slidenum">
              <a:rPr b="1" lang="en-US" sz="2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2"/>
          </p:nvPr>
        </p:nvSpPr>
        <p:spPr>
          <a:xfrm>
            <a:off x="2144520" y="6362280"/>
            <a:ext cx="67690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ЗВАНИЕ ПРЕЗЕНТАЦИ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755640" y="7605720"/>
            <a:ext cx="410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0" name="Line 16"/>
          <p:cNvSpPr/>
          <p:nvPr/>
        </p:nvSpPr>
        <p:spPr>
          <a:xfrm>
            <a:off x="0" y="631512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Line 1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Picture 19" descr="TransGazKazan"/>
          <p:cNvPicPr/>
          <p:nvPr/>
        </p:nvPicPr>
        <p:blipFill>
          <a:blip r:embed="rId2"/>
          <a:stretch/>
        </p:blipFill>
        <p:spPr>
          <a:xfrm>
            <a:off x="168120" y="128520"/>
            <a:ext cx="156060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0" y="6318360"/>
            <a:ext cx="9144000" cy="539640"/>
            <a:chOff x="0" y="6318360"/>
            <a:chExt cx="9144000" cy="539640"/>
          </a:xfrm>
        </p:grpSpPr>
        <p:sp>
          <p:nvSpPr>
            <p:cNvPr id="311" name="Rectangle 5"/>
            <p:cNvSpPr/>
            <p:nvPr/>
          </p:nvSpPr>
          <p:spPr>
            <a:xfrm>
              <a:off x="0" y="6318360"/>
              <a:ext cx="1936800" cy="5396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1943280" y="6318360"/>
              <a:ext cx="720072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3" name="Line 7"/>
            <p:cNvSpPr/>
            <p:nvPr/>
          </p:nvSpPr>
          <p:spPr>
            <a:xfrm>
              <a:off x="1936800" y="6318360"/>
              <a:ext cx="0" cy="5396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14" name="Rectangle 8"/>
          <p:cNvSpPr/>
          <p:nvPr/>
        </p:nvSpPr>
        <p:spPr>
          <a:xfrm>
            <a:off x="0" y="0"/>
            <a:ext cx="1936800" cy="1079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1943280" y="0"/>
            <a:ext cx="7200720" cy="1079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6" name="Line 10"/>
          <p:cNvSpPr/>
          <p:nvPr/>
        </p:nvSpPr>
        <p:spPr>
          <a:xfrm>
            <a:off x="1936800" y="0"/>
            <a:ext cx="0" cy="10796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58560" y="-360"/>
            <a:ext cx="6985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ftr" idx="13"/>
          </p:nvPr>
        </p:nvSpPr>
        <p:spPr>
          <a:xfrm>
            <a:off x="2144520" y="6362280"/>
            <a:ext cx="67690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ЗВАНИЕ ПРЕЗЕНТАЦИ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755640" y="7605720"/>
            <a:ext cx="410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0" name="Line 16"/>
          <p:cNvSpPr/>
          <p:nvPr/>
        </p:nvSpPr>
        <p:spPr>
          <a:xfrm>
            <a:off x="0" y="631512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1" name="Line 17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22" name="Picture 18" descr="TransGazKazan"/>
          <p:cNvPicPr/>
          <p:nvPr/>
        </p:nvPicPr>
        <p:blipFill>
          <a:blip r:embed="rId2"/>
          <a:stretch/>
        </p:blipFill>
        <p:spPr>
          <a:xfrm>
            <a:off x="168120" y="128520"/>
            <a:ext cx="156060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0" y="6313320"/>
            <a:ext cx="9144000" cy="544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Rectangle 13"/>
          <p:cNvSpPr/>
          <p:nvPr/>
        </p:nvSpPr>
        <p:spPr>
          <a:xfrm>
            <a:off x="0" y="0"/>
            <a:ext cx="1936800" cy="1079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2" name="Rectangle 14"/>
          <p:cNvSpPr/>
          <p:nvPr/>
        </p:nvSpPr>
        <p:spPr>
          <a:xfrm>
            <a:off x="1943280" y="0"/>
            <a:ext cx="7200720" cy="1079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1936800" y="0"/>
            <a:ext cx="0" cy="10796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Line 33"/>
          <p:cNvSpPr/>
          <p:nvPr/>
        </p:nvSpPr>
        <p:spPr>
          <a:xfrm>
            <a:off x="0" y="107964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5" name="Line 34"/>
          <p:cNvSpPr/>
          <p:nvPr/>
        </p:nvSpPr>
        <p:spPr>
          <a:xfrm>
            <a:off x="0" y="6315120"/>
            <a:ext cx="9144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66" name="Picture 35" descr="TransGazKazan"/>
          <p:cNvPicPr/>
          <p:nvPr/>
        </p:nvPicPr>
        <p:blipFill>
          <a:blip r:embed="rId2"/>
          <a:stretch/>
        </p:blipFill>
        <p:spPr>
          <a:xfrm>
            <a:off x="168120" y="128520"/>
            <a:ext cx="156060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2"/>
          <p:cNvSpPr/>
          <p:nvPr/>
        </p:nvSpPr>
        <p:spPr>
          <a:xfrm>
            <a:off x="2144880" y="6362640"/>
            <a:ext cx="6769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 разработке Стратегии управления активами ГРО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9360" y="1076400"/>
            <a:ext cx="9144000" cy="5781600"/>
          </a:xfrm>
          <a:prstGeom prst="rect">
            <a:avLst/>
          </a:prstGeom>
          <a:solidFill>
            <a:srgbClr val="002f7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5" name="Нижний колонтитул 4"/>
          <p:cNvSpPr/>
          <p:nvPr/>
        </p:nvSpPr>
        <p:spPr>
          <a:xfrm>
            <a:off x="652320" y="1998720"/>
            <a:ext cx="8064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циональный стандарт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«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стемы газораспределительные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стема  управления сетями газораспределения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0" y="1133640"/>
            <a:ext cx="9144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7" name="Нижний колонтитул 4"/>
          <p:cNvSpPr/>
          <p:nvPr/>
        </p:nvSpPr>
        <p:spPr>
          <a:xfrm>
            <a:off x="846000" y="4203720"/>
            <a:ext cx="806472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М.В. Красильникова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заведующая лабораторией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8" name="Нижний колонтитул 4"/>
          <p:cNvSpPr/>
          <p:nvPr/>
        </p:nvSpPr>
        <p:spPr>
          <a:xfrm>
            <a:off x="0" y="62784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седание ТК 23, г. Санкт-Петербург, 12 сентября 2012 г.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61498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58560" y="147600"/>
            <a:ext cx="698508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Публичное обсуждение стандарта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0" y="1811160"/>
            <a:ext cx="914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Приняли участие </a:t>
            </a:r>
            <a:r>
              <a:rPr b="1" lang="ru-RU" sz="1600" spc="-1" strike="noStrike">
                <a:solidFill>
                  <a:srgbClr val="ff3399"/>
                </a:solidFill>
                <a:latin typeface="Arial"/>
              </a:rPr>
              <a:t>29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организаций, из них по </a:t>
            </a:r>
            <a:r>
              <a:rPr b="1" lang="ru-RU" sz="1600" spc="-1" strike="noStrike">
                <a:solidFill>
                  <a:srgbClr val="ff3399"/>
                </a:solidFill>
                <a:latin typeface="Arial"/>
              </a:rPr>
              <a:t>11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организаций – нет замечаний и предложений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1601640" y="2563920"/>
            <a:ext cx="7378920" cy="14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замечания и предложения, не относящиеся к тематике стандарта или</a:t>
            </a:r>
            <a:br>
              <a:rPr sz="1500"/>
            </a:b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 неоправданно расширяющие его </a:t>
            </a:r>
            <a:endParaRPr b="0" lang="en-US" sz="15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редложения дать ссылки на нормативные документы, не входящие в систему</a:t>
            </a:r>
            <a:br>
              <a:rPr sz="1500"/>
            </a:b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 стандартизации</a:t>
            </a:r>
            <a:endParaRPr b="0" lang="en-US" sz="15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вопросы, не являющиеся замечаниями и предложениями</a:t>
            </a:r>
            <a:endParaRPr b="0" lang="en-US" sz="15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едакции отдельных положений, не меняющие смысл</a:t>
            </a:r>
            <a:endParaRPr b="0" lang="en-US" sz="15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4" name="Rectangle 10"/>
          <p:cNvSpPr/>
          <p:nvPr/>
        </p:nvSpPr>
        <p:spPr>
          <a:xfrm>
            <a:off x="21960" y="2187720"/>
            <a:ext cx="85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Поступило </a:t>
            </a:r>
            <a:r>
              <a:rPr b="1" lang="ru-RU" sz="16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46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замечаний и предложений. Из них принято или принято частично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~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60%.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150840" y="1143000"/>
            <a:ext cx="882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indent="355680">
              <a:lnSpc>
                <a:spcPct val="100000"/>
              </a:lnSpc>
              <a:spcBef>
                <a:spcPts val="1063"/>
              </a:spcBef>
              <a:buClr>
                <a:srgbClr val="ff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11.07.2011  - 21.09.2011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-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сайт Федерального агентства по техническому</a:t>
            </a:r>
            <a:br>
              <a:rPr sz="1800"/>
            </a:b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                                               регулированию и метрологии</a:t>
            </a:r>
            <a:r>
              <a:rPr b="0" lang="ru-RU" sz="1700" spc="-1" strike="noStrike">
                <a:solidFill>
                  <a:srgbClr val="003399"/>
                </a:solidFill>
                <a:latin typeface="Arial Narrow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6" name="Text Box 13"/>
          <p:cNvSpPr/>
          <p:nvPr/>
        </p:nvSpPr>
        <p:spPr>
          <a:xfrm>
            <a:off x="1601640" y="4167360"/>
            <a:ext cx="831060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о своевременности разработки стандарта </a:t>
            </a:r>
            <a:endParaRPr b="0" lang="en-US" sz="15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об области применимости стандарта</a:t>
            </a:r>
            <a:endParaRPr b="0" lang="en-US" sz="15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о соответствии процессов жизненному циклу сетей газораспределения</a:t>
            </a:r>
            <a:endParaRPr b="0" lang="en-US" sz="15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о составляющих процессов (видах деятельности и ресурсах)</a:t>
            </a:r>
            <a:endParaRPr b="0" lang="en-US" sz="15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об увеличении информационных потоков</a:t>
            </a:r>
            <a:endParaRPr b="0" lang="en-US" sz="15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отдельные определения (в частности, технические условия</a:t>
            </a:r>
            <a:br>
              <a:rPr sz="1500"/>
            </a:b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      присоединения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дключения)</a:t>
            </a:r>
            <a:endParaRPr b="0" lang="en-US" sz="15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о месте системы аварийно-диспетчерского управления в стандарте </a:t>
            </a:r>
            <a:endParaRPr b="0" lang="en-US" sz="15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2563920"/>
            <a:ext cx="155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Отклонялись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4167360"/>
            <a:ext cx="1558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Основные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вопросы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158560" y="255240"/>
            <a:ext cx="69850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Обсуждение и согласование стандарта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150840" y="1611360"/>
            <a:ext cx="882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ff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Декабрь 2011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обсуждение на расширенном заседании ПК 4.</a:t>
            </a:r>
            <a:br>
              <a:rPr sz="1800"/>
            </a:b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   Согласование всеми членами ПК 4.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141120" y="2720880"/>
            <a:ext cx="8826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ff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Апрель-июнь 2012 г.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обсуждение в ТК 23.</a:t>
            </a:r>
            <a:br>
              <a:rPr sz="1800"/>
            </a:b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2" name="Rectangle 10"/>
          <p:cNvSpPr/>
          <p:nvPr/>
        </p:nvSpPr>
        <p:spPr>
          <a:xfrm>
            <a:off x="501480" y="3232080"/>
            <a:ext cx="701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Поступило </a:t>
            </a:r>
            <a:r>
              <a:rPr b="1" lang="ru-RU" sz="1600" spc="-1" strike="noStrike">
                <a:solidFill>
                  <a:srgbClr val="ff3399"/>
                </a:solidFill>
                <a:latin typeface="Arial"/>
              </a:rPr>
              <a:t>8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замечаний и предложений от 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организаций, принято 6.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3" name="Line 28"/>
          <p:cNvSpPr/>
          <p:nvPr/>
        </p:nvSpPr>
        <p:spPr>
          <a:xfrm>
            <a:off x="0" y="4324320"/>
            <a:ext cx="914400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4" name=""/>
          <p:cNvSpPr/>
          <p:nvPr/>
        </p:nvSpPr>
        <p:spPr>
          <a:xfrm>
            <a:off x="243000" y="4818960"/>
            <a:ext cx="868032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 Narrow"/>
              </a:rPr>
              <a:t>Разработка межгосударственного стандарта </a:t>
            </a: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                </a:t>
            </a:r>
            <a:r>
              <a:rPr b="0" lang="ru-RU" sz="1600" spc="-1" strike="noStrike">
                <a:solidFill>
                  <a:srgbClr val="333399"/>
                </a:solidFill>
                <a:latin typeface="Arial Narrow"/>
              </a:rPr>
              <a:t>обеспечение соответствия положений стандарта требованиям Технических регламентов Таможенного союза, с учетом, возможно, особенностей функционирования национальных систем газораспределения</a:t>
            </a: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 (</a:t>
            </a:r>
            <a:r>
              <a:rPr b="0" lang="ru-RU" sz="1600" spc="-1" strike="noStrike">
                <a:solidFill>
                  <a:srgbClr val="333399"/>
                </a:solidFill>
                <a:latin typeface="Arial Narrow"/>
              </a:rPr>
              <a:t> выделение основных процессов в газораспределении (действий и ресурсов)).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 Narrow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5" name=""/>
          <p:cNvSpPr/>
          <p:nvPr/>
        </p:nvSpPr>
        <p:spPr>
          <a:xfrm>
            <a:off x="4230720" y="4851360"/>
            <a:ext cx="333360" cy="139680"/>
          </a:xfrm>
          <a:prstGeom prst="rightArrow">
            <a:avLst>
              <a:gd name="adj1" fmla="val 50000"/>
              <a:gd name="adj2" fmla="val 59665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0" y="2557080"/>
            <a:ext cx="9144000" cy="152892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Спасибо за внимание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37"/>
          <p:cNvSpPr/>
          <p:nvPr/>
        </p:nvSpPr>
        <p:spPr>
          <a:xfrm>
            <a:off x="0" y="1068480"/>
            <a:ext cx="9144000" cy="5789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58560" y="0"/>
            <a:ext cx="698508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Цель и актуальность разработки стандарта</a:t>
            </a: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42920" y="4432320"/>
            <a:ext cx="7543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Управление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-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овокупность скоординированных мероприятий, направленных на достижение поставленных целей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4653000" y="5129280"/>
            <a:ext cx="301932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Система менеджмента качества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Система экологического менеджмента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Система менеджмента  охраны здоровья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и </a:t>
            </a: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безопасности персонала </a:t>
            </a: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(на основе</a:t>
            </a: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ГОСТ Р ИСО 9001, ГОСТ Р ИСО 10006, ГОСТ Р ИСО 14001, ГОСТ Р ИСО 14040,  ГОСТ 12.0.230)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4" name="Rectangle 12"/>
          <p:cNvSpPr/>
          <p:nvPr/>
        </p:nvSpPr>
        <p:spPr>
          <a:xfrm>
            <a:off x="133200" y="5149800"/>
            <a:ext cx="4075200" cy="128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130000"/>
              </a:lnSpc>
              <a:spcBef>
                <a:spcPts val="1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C</a:t>
            </a:r>
            <a:r>
              <a:rPr b="1" lang="ru-RU" sz="1200" spc="-1" strike="noStrike">
                <a:solidFill>
                  <a:srgbClr val="003366"/>
                </a:solidFill>
                <a:latin typeface="Arial Narrow"/>
              </a:rPr>
              <a:t>УР </a:t>
            </a: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   </a:t>
            </a:r>
            <a:r>
              <a:rPr b="1" lang="ru-RU" sz="1200" spc="-1" strike="noStrike">
                <a:solidFill>
                  <a:srgbClr val="003366"/>
                </a:solidFill>
                <a:latin typeface="Arial Narrow"/>
              </a:rPr>
              <a:t>(система управления рисками)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3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C</a:t>
            </a:r>
            <a:r>
              <a:rPr b="1" lang="ru-RU" sz="1200" spc="-1" strike="noStrike">
                <a:solidFill>
                  <a:srgbClr val="003366"/>
                </a:solidFill>
                <a:latin typeface="Arial Narrow"/>
              </a:rPr>
              <a:t>УПБ (система управления промышленной безопасностью)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3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C</a:t>
            </a:r>
            <a:r>
              <a:rPr b="1" lang="ru-RU" sz="1200" spc="-1" strike="noStrike">
                <a:solidFill>
                  <a:srgbClr val="003366"/>
                </a:solidFill>
                <a:latin typeface="Arial Narrow"/>
              </a:rPr>
              <a:t>УЦГ (система управления целостностью газопроводов</a:t>
            </a: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3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C</a:t>
            </a:r>
            <a:r>
              <a:rPr b="1" lang="ru-RU" sz="1200" spc="-1" strike="noStrike">
                <a:solidFill>
                  <a:srgbClr val="003366"/>
                </a:solidFill>
                <a:latin typeface="Arial Narrow"/>
              </a:rPr>
              <a:t>УН </a:t>
            </a: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  </a:t>
            </a:r>
            <a:r>
              <a:rPr b="1" lang="ru-RU" sz="1200" spc="-1" strike="noStrike">
                <a:solidFill>
                  <a:srgbClr val="003366"/>
                </a:solidFill>
                <a:latin typeface="Arial Narrow"/>
              </a:rPr>
              <a:t>(система управления надежностью</a:t>
            </a: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3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C</a:t>
            </a:r>
            <a:r>
              <a:rPr b="1" lang="ru-RU" sz="1200" spc="-1" strike="noStrike">
                <a:solidFill>
                  <a:srgbClr val="003366"/>
                </a:solidFill>
                <a:latin typeface="Arial Narrow"/>
              </a:rPr>
              <a:t>УК </a:t>
            </a: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   (</a:t>
            </a:r>
            <a:r>
              <a:rPr b="1" lang="ru-RU" sz="1200" spc="-1" strike="noStrike">
                <a:solidFill>
                  <a:srgbClr val="003366"/>
                </a:solidFill>
                <a:latin typeface="Arial Narrow"/>
              </a:rPr>
              <a:t>система управления качеством</a:t>
            </a: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)</a:t>
            </a:r>
            <a:r>
              <a:rPr b="1" lang="ru-RU" sz="1200" spc="-1" strike="noStrike">
                <a:solidFill>
                  <a:srgbClr val="003366"/>
                </a:solidFill>
                <a:latin typeface="Arial Narrow"/>
              </a:rPr>
              <a:t> ….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5" name="Text Box 15"/>
          <p:cNvSpPr/>
          <p:nvPr/>
        </p:nvSpPr>
        <p:spPr>
          <a:xfrm>
            <a:off x="0" y="2965320"/>
            <a:ext cx="2270160" cy="524520"/>
          </a:xfrm>
          <a:prstGeom prst="parallelogram">
            <a:avLst>
              <a:gd name="adj" fmla="val 132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Реформирование нормативной базы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6" name="Rectangle 19"/>
          <p:cNvSpPr/>
          <p:nvPr/>
        </p:nvSpPr>
        <p:spPr>
          <a:xfrm>
            <a:off x="6566040" y="2725560"/>
            <a:ext cx="25779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Перестройка системы эксплуатации, новые подходы к организации и планированию производственной деятельностью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7" name="Text Box 27"/>
          <p:cNvSpPr/>
          <p:nvPr/>
        </p:nvSpPr>
        <p:spPr>
          <a:xfrm>
            <a:off x="8340840" y="5440320"/>
            <a:ext cx="69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edff"/>
                </a:solidFill>
                <a:latin typeface="Times New Roman"/>
              </a:rPr>
              <a:t>??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8" name="Line 28"/>
          <p:cNvSpPr/>
          <p:nvPr/>
        </p:nvSpPr>
        <p:spPr>
          <a:xfrm>
            <a:off x="0" y="430524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9" name=""/>
          <p:cNvSpPr/>
          <p:nvPr/>
        </p:nvSpPr>
        <p:spPr>
          <a:xfrm>
            <a:off x="2716200" y="5315040"/>
            <a:ext cx="9237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0" name=""/>
          <p:cNvSpPr/>
          <p:nvPr/>
        </p:nvSpPr>
        <p:spPr>
          <a:xfrm>
            <a:off x="4268880" y="5465880"/>
            <a:ext cx="74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1" name=""/>
          <p:cNvSpPr/>
          <p:nvPr/>
        </p:nvSpPr>
        <p:spPr>
          <a:xfrm>
            <a:off x="7875720" y="5419800"/>
            <a:ext cx="388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2" name="Rectangle 125"/>
          <p:cNvSpPr/>
          <p:nvPr/>
        </p:nvSpPr>
        <p:spPr>
          <a:xfrm>
            <a:off x="0" y="1139760"/>
            <a:ext cx="9144000" cy="1117800"/>
          </a:xfrm>
          <a:prstGeom prst="rect">
            <a:avLst/>
          </a:prstGeom>
          <a:solidFill>
            <a:srgbClr val="c9ed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25081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Стандартизация принципов и архитектуры системы управления</a:t>
            </a:r>
            <a:br>
              <a:rPr sz="1600"/>
            </a:b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    (менеджмента) сетями газораспределения, обеспечивающей</a:t>
            </a:r>
            <a:br>
              <a:rPr sz="1600"/>
            </a:b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    безопасность и надежность, а также экономическую </a:t>
            </a:r>
            <a:br>
              <a:rPr sz="1600"/>
            </a:b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    эффективность транспортировки газа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3" name="AutoShape 22"/>
          <p:cNvSpPr/>
          <p:nvPr/>
        </p:nvSpPr>
        <p:spPr>
          <a:xfrm>
            <a:off x="8354880" y="4329000"/>
            <a:ext cx="314280" cy="905040"/>
          </a:xfrm>
          <a:prstGeom prst="downArrow">
            <a:avLst>
              <a:gd name="adj1" fmla="val 50000"/>
              <a:gd name="adj2" fmla="val 71993"/>
            </a:avLst>
          </a:prstGeom>
          <a:solidFill>
            <a:srgbClr val="c9ed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193680" y="1287360"/>
            <a:ext cx="2270160" cy="524520"/>
          </a:xfrm>
          <a:prstGeom prst="parallelogram">
            <a:avLst>
              <a:gd name="adj" fmla="val 132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Цель разработки стандарта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5" name="AutoShape 18"/>
          <p:cNvSpPr/>
          <p:nvPr/>
        </p:nvSpPr>
        <p:spPr>
          <a:xfrm>
            <a:off x="2637000" y="2557440"/>
            <a:ext cx="3562200" cy="1449360"/>
          </a:xfrm>
          <a:prstGeom prst="roundRect">
            <a:avLst>
              <a:gd name="adj" fmla="val 16667"/>
            </a:avLst>
          </a:prstGeom>
          <a:solidFill>
            <a:srgbClr val="c9ed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2160720" y="2516040"/>
            <a:ext cx="45162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ГРО </a:t>
            </a:r>
            <a:br>
              <a:rPr sz="1400"/>
            </a:b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(поддержание сетей газораспределения в исправном и работоспособном состоянии)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ff3399"/>
                </a:solidFill>
                <a:latin typeface="Times New Roman"/>
              </a:rPr>
              <a:t>надежность и безопасность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ff3399"/>
                </a:solidFill>
                <a:latin typeface="Times New Roman"/>
              </a:rPr>
              <a:t>экономическая эффективность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7" name="AutoShape 31"/>
          <p:cNvSpPr/>
          <p:nvPr/>
        </p:nvSpPr>
        <p:spPr>
          <a:xfrm>
            <a:off x="2155680" y="3178080"/>
            <a:ext cx="214560" cy="125640"/>
          </a:xfrm>
          <a:prstGeom prst="rightArrow">
            <a:avLst>
              <a:gd name="adj1" fmla="val 50000"/>
              <a:gd name="adj2" fmla="val 42693"/>
            </a:avLst>
          </a:prstGeom>
          <a:solidFill>
            <a:srgbClr val="c9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8" name="AutoShape 31"/>
          <p:cNvSpPr/>
          <p:nvPr/>
        </p:nvSpPr>
        <p:spPr>
          <a:xfrm>
            <a:off x="6364440" y="3178080"/>
            <a:ext cx="214200" cy="125640"/>
          </a:xfrm>
          <a:prstGeom prst="rightArrow">
            <a:avLst>
              <a:gd name="adj1" fmla="val 50000"/>
              <a:gd name="adj2" fmla="val 42622"/>
            </a:avLst>
          </a:prstGeom>
          <a:solidFill>
            <a:srgbClr val="c9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52640" y="-360"/>
            <a:ext cx="719136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CEN/TS 15173 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нцепция системы управления целостностью трубопровода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MS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Arial"/>
              </a:rPr>
              <a:t>управление процессами (описание действий и ресурсов, прежде всего организационных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0" name="Line 117"/>
          <p:cNvSpPr/>
          <p:nvPr/>
        </p:nvSpPr>
        <p:spPr>
          <a:xfrm>
            <a:off x="4552920" y="2730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1" name="Line 345"/>
          <p:cNvSpPr/>
          <p:nvPr/>
        </p:nvSpPr>
        <p:spPr>
          <a:xfrm>
            <a:off x="4552920" y="2730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2" name="Нижний колонтитул 3"/>
          <p:cNvSpPr/>
          <p:nvPr/>
        </p:nvSpPr>
        <p:spPr>
          <a:xfrm>
            <a:off x="2144880" y="6191280"/>
            <a:ext cx="6769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 Narrow"/>
              </a:rPr>
              <a:t>К </a:t>
            </a:r>
            <a:r>
              <a:rPr b="0" lang="en-US" sz="1200" spc="-1" strike="noStrike">
                <a:solidFill>
                  <a:srgbClr val="003399"/>
                </a:solidFill>
                <a:latin typeface="Arial Narrow"/>
              </a:rPr>
              <a:t>разработке Р Газпром «Газораспределительные системы. Оценка и управление рисками реализации инвестиционных проектов строительства и реконструкции газораспределительных систем»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3" name="Text Box 616"/>
          <p:cNvSpPr/>
          <p:nvPr/>
        </p:nvSpPr>
        <p:spPr>
          <a:xfrm>
            <a:off x="0" y="1808280"/>
            <a:ext cx="9144000" cy="504972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ГЛОБАЛЬНЫЙ ПРОЦЕСС – ПРОЦЕСС УПРАВЛЕНИЯ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34" name="Group 642"/>
          <p:cNvGrpSpPr/>
          <p:nvPr/>
        </p:nvGrpSpPr>
        <p:grpSpPr>
          <a:xfrm>
            <a:off x="0" y="3930480"/>
            <a:ext cx="5413320" cy="2899080"/>
            <a:chOff x="0" y="3930480"/>
            <a:chExt cx="5413320" cy="2899080"/>
          </a:xfrm>
        </p:grpSpPr>
        <p:sp>
          <p:nvSpPr>
            <p:cNvPr id="435" name="Text Box 617"/>
            <p:cNvSpPr/>
            <p:nvPr/>
          </p:nvSpPr>
          <p:spPr>
            <a:xfrm>
              <a:off x="0" y="3930480"/>
              <a:ext cx="5413320" cy="289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ОСНОВНЫЕ ПРОЦЕССЫ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6" name="Text Box 619"/>
            <p:cNvSpPr/>
            <p:nvPr/>
          </p:nvSpPr>
          <p:spPr>
            <a:xfrm>
              <a:off x="129960" y="4246560"/>
              <a:ext cx="2514600" cy="2494080"/>
            </a:xfrm>
            <a:prstGeom prst="rect">
              <a:avLst/>
            </a:prstGeom>
            <a:solidFill>
              <a:srgbClr val="e8e8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Times New Roman"/>
                </a:rPr>
                <a:t>процесс  </a:t>
              </a:r>
              <a:br>
                <a:rPr sz="1500"/>
              </a:br>
              <a:r>
                <a:rPr b="0" lang="en-US" sz="1500" spc="-1" strike="noStrike">
                  <a:solidFill>
                    <a:srgbClr val="333399"/>
                  </a:solidFill>
                  <a:latin typeface="Times New Roman"/>
                </a:rPr>
                <a:t>технического оснащения</a:t>
              </a:r>
              <a:endParaRPr b="0" lang="en-US" sz="15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imes New Roman"/>
                </a:rPr>
                <a:t>- проектирование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imes New Roman"/>
                </a:rPr>
                <a:t>-  строительство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7" name="Text Box 620"/>
            <p:cNvSpPr/>
            <p:nvPr/>
          </p:nvSpPr>
          <p:spPr>
            <a:xfrm>
              <a:off x="2838240" y="4246560"/>
              <a:ext cx="2514600" cy="2500200"/>
            </a:xfrm>
            <a:prstGeom prst="rect">
              <a:avLst/>
            </a:prstGeom>
            <a:solidFill>
              <a:srgbClr val="e8e8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Times New Roman"/>
                </a:rPr>
                <a:t>процесс        </a:t>
              </a:r>
              <a:br>
                <a:rPr sz="1500"/>
              </a:br>
              <a:r>
                <a:rPr b="0" lang="en-US" sz="1500" spc="-1" strike="noStrike">
                  <a:solidFill>
                    <a:srgbClr val="333399"/>
                  </a:solidFill>
                  <a:latin typeface="Times New Roman"/>
                </a:rPr>
                <a:t>эксплуатации и технического обслуживания</a:t>
              </a:r>
              <a:endParaRPr b="0" lang="en-US" sz="15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buClr>
                  <a:srgbClr val="333399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imes New Roman"/>
                </a:rPr>
                <a:t>мониторинг и текущее техническое обслуживание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buClr>
                  <a:srgbClr val="333399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imes New Roman"/>
                </a:rPr>
                <a:t>профилактическое и коррекционное техническое обслуживание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buClr>
                  <a:srgbClr val="333399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imes New Roman"/>
                </a:rPr>
                <a:t>управление аварийными ситуациями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38" name="Text Box 621"/>
          <p:cNvSpPr/>
          <p:nvPr/>
        </p:nvSpPr>
        <p:spPr>
          <a:xfrm>
            <a:off x="7124760" y="2139840"/>
            <a:ext cx="1942920" cy="144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333399"/>
                </a:solidFill>
                <a:latin typeface="Times New Roman"/>
              </a:rPr>
              <a:t>Составляющие цикла управления: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333399"/>
                </a:solidFill>
                <a:latin typeface="Times New Roman"/>
              </a:rPr>
              <a:t>политика управления (цели и задачи)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333399"/>
                </a:solidFill>
                <a:latin typeface="Times New Roman"/>
              </a:rPr>
              <a:t>планирование действий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333399"/>
                </a:solidFill>
                <a:latin typeface="Times New Roman"/>
              </a:rPr>
              <a:t>реализация действий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333399"/>
                </a:solidFill>
                <a:latin typeface="Times New Roman"/>
              </a:rPr>
              <a:t>контроль и корректирующие действия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333399"/>
                </a:solidFill>
                <a:latin typeface="Times New Roman"/>
              </a:rPr>
              <a:t>пересмотр процессов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9" name="Text Box 622"/>
          <p:cNvSpPr/>
          <p:nvPr/>
        </p:nvSpPr>
        <p:spPr>
          <a:xfrm>
            <a:off x="79200" y="2139840"/>
            <a:ext cx="1828800" cy="11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333399"/>
                </a:solidFill>
                <a:latin typeface="Times New Roman"/>
              </a:rPr>
              <a:t>Процесс характеризуется: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333399"/>
                </a:solidFill>
                <a:latin typeface="Times New Roman"/>
              </a:rPr>
              <a:t>принципами действий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333399"/>
                </a:solidFill>
                <a:latin typeface="Times New Roman"/>
              </a:rPr>
              <a:t>действиями ( и их порядком)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333399"/>
                </a:solidFill>
                <a:latin typeface="Times New Roman"/>
              </a:rPr>
              <a:t>ресурсами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0" name="Text Box 629"/>
          <p:cNvSpPr/>
          <p:nvPr/>
        </p:nvSpPr>
        <p:spPr>
          <a:xfrm>
            <a:off x="2475000" y="2209680"/>
            <a:ext cx="41148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- обязанности руководства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- организация и распределение ответственностей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- контроль и идентификация опасности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- планирование и контроль (мониторинг) рабочих характеристик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- управление информационными потоками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- аудит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1" name="Line 630"/>
          <p:cNvSpPr/>
          <p:nvPr/>
        </p:nvSpPr>
        <p:spPr>
          <a:xfrm flipH="1">
            <a:off x="1790280" y="2249640"/>
            <a:ext cx="569880" cy="1595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2" name="Line 631"/>
          <p:cNvSpPr/>
          <p:nvPr/>
        </p:nvSpPr>
        <p:spPr>
          <a:xfrm>
            <a:off x="6710400" y="2197080"/>
            <a:ext cx="463680" cy="1658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43" name="Group 643"/>
          <p:cNvGrpSpPr/>
          <p:nvPr/>
        </p:nvGrpSpPr>
        <p:grpSpPr>
          <a:xfrm>
            <a:off x="5608440" y="4643280"/>
            <a:ext cx="228600" cy="1981440"/>
            <a:chOff x="5608440" y="4643280"/>
            <a:chExt cx="228600" cy="1981440"/>
          </a:xfrm>
        </p:grpSpPr>
        <p:sp>
          <p:nvSpPr>
            <p:cNvPr id="444" name="Line 632"/>
            <p:cNvSpPr/>
            <p:nvPr/>
          </p:nvSpPr>
          <p:spPr>
            <a:xfrm flipH="1">
              <a:off x="5608440" y="464328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5" name="Line 633"/>
            <p:cNvSpPr/>
            <p:nvPr/>
          </p:nvSpPr>
          <p:spPr>
            <a:xfrm flipH="1">
              <a:off x="5608440" y="613260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6" name="Line 634"/>
            <p:cNvSpPr/>
            <p:nvPr/>
          </p:nvSpPr>
          <p:spPr>
            <a:xfrm flipH="1">
              <a:off x="5608440" y="499572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7" name="Line 635"/>
            <p:cNvSpPr/>
            <p:nvPr/>
          </p:nvSpPr>
          <p:spPr>
            <a:xfrm flipH="1">
              <a:off x="5608440" y="537372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8" name="Line 636"/>
            <p:cNvSpPr/>
            <p:nvPr/>
          </p:nvSpPr>
          <p:spPr>
            <a:xfrm flipH="1">
              <a:off x="5608440" y="575784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9" name="Line 637"/>
            <p:cNvSpPr/>
            <p:nvPr/>
          </p:nvSpPr>
          <p:spPr>
            <a:xfrm flipH="1">
              <a:off x="5608440" y="662472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450" name="Group 641"/>
          <p:cNvGrpSpPr/>
          <p:nvPr/>
        </p:nvGrpSpPr>
        <p:grpSpPr>
          <a:xfrm>
            <a:off x="5991120" y="3951360"/>
            <a:ext cx="3086280" cy="2851200"/>
            <a:chOff x="5991120" y="3951360"/>
            <a:chExt cx="3086280" cy="2851200"/>
          </a:xfrm>
        </p:grpSpPr>
        <p:sp>
          <p:nvSpPr>
            <p:cNvPr id="451" name="Text Box 618"/>
            <p:cNvSpPr/>
            <p:nvPr/>
          </p:nvSpPr>
          <p:spPr>
            <a:xfrm>
              <a:off x="5991120" y="3951360"/>
              <a:ext cx="3086280" cy="285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ВСПОМОГАТЕЛЬНЫЕ ПРОЦЕССЫ </a:t>
              </a:r>
              <a:br>
                <a:rPr sz="1200"/>
              </a:b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52" name="Group 640"/>
            <p:cNvGrpSpPr/>
            <p:nvPr/>
          </p:nvGrpSpPr>
          <p:grpSpPr>
            <a:xfrm>
              <a:off x="6111720" y="4457880"/>
              <a:ext cx="2628720" cy="2273400"/>
              <a:chOff x="6111720" y="4457880"/>
              <a:chExt cx="2628720" cy="2273400"/>
            </a:xfrm>
          </p:grpSpPr>
          <p:sp>
            <p:nvSpPr>
              <p:cNvPr id="453" name="Text Box 624"/>
              <p:cNvSpPr/>
              <p:nvPr/>
            </p:nvSpPr>
            <p:spPr>
              <a:xfrm>
                <a:off x="6111720" y="4805640"/>
                <a:ext cx="2400120" cy="271440"/>
              </a:xfrm>
              <a:prstGeom prst="rect">
                <a:avLst/>
              </a:prstGeom>
              <a:solidFill>
                <a:srgbClr val="e8e8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imes New Roman"/>
                  </a:rPr>
                  <a:t>закупки</a:t>
                </a:r>
                <a:endParaRPr b="0" lang="en-US" sz="1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4" name="Text Box 625"/>
              <p:cNvSpPr/>
              <p:nvPr/>
            </p:nvSpPr>
            <p:spPr>
              <a:xfrm>
                <a:off x="6111720" y="5137200"/>
                <a:ext cx="2400120" cy="306360"/>
              </a:xfrm>
              <a:prstGeom prst="rect">
                <a:avLst/>
              </a:prstGeom>
              <a:solidFill>
                <a:srgbClr val="e8e8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imes New Roman"/>
                  </a:rPr>
                  <a:t>коммуникации</a:t>
                </a:r>
                <a:endParaRPr b="0" lang="en-US" sz="1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5" name="Text Box 626"/>
              <p:cNvSpPr/>
              <p:nvPr/>
            </p:nvSpPr>
            <p:spPr>
              <a:xfrm>
                <a:off x="6111720" y="5515200"/>
                <a:ext cx="2628720" cy="306360"/>
              </a:xfrm>
              <a:prstGeom prst="rect">
                <a:avLst/>
              </a:prstGeom>
              <a:solidFill>
                <a:srgbClr val="e8e8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imes New Roman"/>
                  </a:rPr>
                  <a:t>охрана окружающей среды</a:t>
                </a:r>
                <a:endParaRPr b="0" lang="en-US" sz="1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6" name="Text Box 627"/>
              <p:cNvSpPr/>
              <p:nvPr/>
            </p:nvSpPr>
            <p:spPr>
              <a:xfrm>
                <a:off x="6111720" y="5864400"/>
                <a:ext cx="2628720" cy="399960"/>
              </a:xfrm>
              <a:prstGeom prst="rect">
                <a:avLst/>
              </a:prstGeom>
              <a:solidFill>
                <a:srgbClr val="e8e8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imes New Roman"/>
                  </a:rPr>
                  <a:t>качество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333399"/>
                    </a:solidFill>
                    <a:latin typeface="Times New Roman"/>
                  </a:rPr>
                  <a:t>(в том числе эффективность)</a:t>
                </a:r>
                <a:endParaRPr b="0" lang="en-US" sz="1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7" name="Text Box 628"/>
              <p:cNvSpPr/>
              <p:nvPr/>
            </p:nvSpPr>
            <p:spPr>
              <a:xfrm>
                <a:off x="6111720" y="6321600"/>
                <a:ext cx="2628720" cy="409680"/>
              </a:xfrm>
              <a:prstGeom prst="rect">
                <a:avLst/>
              </a:prstGeom>
              <a:solidFill>
                <a:srgbClr val="e8e8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imes New Roman"/>
                  </a:rPr>
                  <a:t>соблюдение стандартов, технологий и нормативов</a:t>
                </a:r>
                <a:endParaRPr b="0" lang="en-US" sz="1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8" name="Text Box 638"/>
              <p:cNvSpPr/>
              <p:nvPr/>
            </p:nvSpPr>
            <p:spPr>
              <a:xfrm>
                <a:off x="6111720" y="4457880"/>
                <a:ext cx="2400120" cy="279360"/>
              </a:xfrm>
              <a:prstGeom prst="rect">
                <a:avLst/>
              </a:prstGeom>
              <a:solidFill>
                <a:srgbClr val="e8e8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imes New Roman"/>
                  </a:rPr>
                  <a:t>обучение</a:t>
                </a:r>
                <a:endParaRPr b="0" lang="en-US" sz="1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459" name="Rectangle 644"/>
          <p:cNvSpPr/>
          <p:nvPr/>
        </p:nvSpPr>
        <p:spPr>
          <a:xfrm>
            <a:off x="138240" y="833760"/>
            <a:ext cx="87246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Arial Narrow"/>
              </a:rPr>
              <a:t>Основная цель – обеспечение безопасности, охраны окружающей среды, надежности 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Arial Narrow"/>
              </a:rPr>
              <a:t>                               с учетом технических и экономических требований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4"/>
          <p:cNvSpPr/>
          <p:nvPr/>
        </p:nvSpPr>
        <p:spPr>
          <a:xfrm>
            <a:off x="210960" y="833040"/>
            <a:ext cx="8724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Arial Narrow"/>
              </a:rPr>
              <a:t>Основная цель – обеспечение безопасности, надежности и экономической эффективности                               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52640" y="-360"/>
            <a:ext cx="719136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CEN/TS 15399  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казания по системам управления газораспределительными сетями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Arial"/>
              </a:rPr>
              <a:t>реализация системы управления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Arial"/>
              </a:rPr>
              <a:t>(минимально необходимые требования по управлению процессами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0" y="1579680"/>
            <a:ext cx="9144000" cy="5278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0" y="1925640"/>
            <a:ext cx="3727440" cy="4932360"/>
          </a:xfrm>
          <a:prstGeom prst="rect">
            <a:avLst/>
          </a:prstGeom>
          <a:solidFill>
            <a:srgbClr val="e2e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СИСТЕМА УПРАВЛЕНИЯ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4" name="Text Box 8"/>
          <p:cNvSpPr/>
          <p:nvPr/>
        </p:nvSpPr>
        <p:spPr>
          <a:xfrm>
            <a:off x="231840" y="2398680"/>
            <a:ext cx="3398760" cy="43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55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176040" indent="-176040">
              <a:lnSpc>
                <a:spcPct val="100000"/>
              </a:lnSpc>
              <a:buClr>
                <a:srgbClr val="33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Times New Roman"/>
              </a:rPr>
              <a:t>политика (цели и задачи)</a:t>
            </a: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176040" indent="-176040">
              <a:lnSpc>
                <a:spcPct val="100000"/>
              </a:lnSpc>
              <a:buClr>
                <a:srgbClr val="33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Times New Roman"/>
              </a:rPr>
              <a:t>планирование (как</a:t>
            </a:r>
            <a:r>
              <a:rPr b="0" lang="en-US" sz="13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176040" indent="-176040">
              <a:lnSpc>
                <a:spcPct val="100000"/>
              </a:lnSpc>
              <a:buClr>
                <a:srgbClr val="33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176040" indent="-176040">
              <a:lnSpc>
                <a:spcPct val="100000"/>
              </a:lnSpc>
              <a:buClr>
                <a:srgbClr val="33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176040" indent="-176040">
              <a:lnSpc>
                <a:spcPct val="100000"/>
              </a:lnSpc>
              <a:buClr>
                <a:srgbClr val="33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176040" indent="-176040">
              <a:lnSpc>
                <a:spcPct val="100000"/>
              </a:lnSpc>
              <a:buClr>
                <a:srgbClr val="33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176040" indent="-176040">
              <a:lnSpc>
                <a:spcPct val="100000"/>
              </a:lnSpc>
              <a:buClr>
                <a:srgbClr val="33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176040" indent="-176040">
              <a:lnSpc>
                <a:spcPct val="100000"/>
              </a:lnSpc>
              <a:buClr>
                <a:srgbClr val="33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176040" indent="-176040">
              <a:lnSpc>
                <a:spcPct val="100000"/>
              </a:lnSpc>
              <a:buClr>
                <a:srgbClr val="33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176040" indent="-176040">
              <a:lnSpc>
                <a:spcPct val="100000"/>
              </a:lnSpc>
              <a:buClr>
                <a:srgbClr val="33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176040" indent="-176040">
              <a:lnSpc>
                <a:spcPct val="100000"/>
              </a:lnSpc>
              <a:buClr>
                <a:srgbClr val="33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Times New Roman"/>
              </a:rPr>
              <a:t>юридические и иные требования</a:t>
            </a: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176040" indent="-176040">
              <a:lnSpc>
                <a:spcPct val="100000"/>
              </a:lnSpc>
              <a:buClr>
                <a:srgbClr val="33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Times New Roman"/>
              </a:rPr>
              <a:t>реализация управления процессами:</a:t>
            </a: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176040" indent="-176040">
              <a:lnSpc>
                <a:spcPct val="100000"/>
              </a:lnSpc>
              <a:buClr>
                <a:srgbClr val="3333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65" name="Group 23"/>
          <p:cNvGrpSpPr/>
          <p:nvPr/>
        </p:nvGrpSpPr>
        <p:grpSpPr>
          <a:xfrm>
            <a:off x="4844880" y="1895400"/>
            <a:ext cx="4327560" cy="4962600"/>
            <a:chOff x="4844880" y="1895400"/>
            <a:chExt cx="4327560" cy="4962600"/>
          </a:xfrm>
        </p:grpSpPr>
        <p:sp>
          <p:nvSpPr>
            <p:cNvPr id="466" name="Text Box 9"/>
            <p:cNvSpPr/>
            <p:nvPr/>
          </p:nvSpPr>
          <p:spPr>
            <a:xfrm>
              <a:off x="4844880" y="1895400"/>
              <a:ext cx="4327560" cy="4962600"/>
            </a:xfrm>
            <a:prstGeom prst="rect">
              <a:avLst/>
            </a:prstGeom>
            <a:solidFill>
              <a:srgbClr val="e8e8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99"/>
                  </a:solidFill>
                  <a:latin typeface="Times New Roman"/>
                </a:rPr>
                <a:t>ПРОЦЕССЫ</a:t>
              </a: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: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7" name="Text Box 10"/>
            <p:cNvSpPr/>
            <p:nvPr/>
          </p:nvSpPr>
          <p:spPr>
            <a:xfrm>
              <a:off x="5095440" y="2279520"/>
              <a:ext cx="3964320" cy="30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imes New Roman"/>
                </a:rPr>
                <a:t>обучение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8" name="Text Box 11"/>
            <p:cNvSpPr/>
            <p:nvPr/>
          </p:nvSpPr>
          <p:spPr>
            <a:xfrm>
              <a:off x="5095440" y="2649600"/>
              <a:ext cx="3964320" cy="26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imes New Roman"/>
                </a:rPr>
                <a:t>коммуникации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9" name="Text Box 12"/>
            <p:cNvSpPr/>
            <p:nvPr/>
          </p:nvSpPr>
          <p:spPr>
            <a:xfrm>
              <a:off x="5086080" y="2982960"/>
              <a:ext cx="39844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imes New Roman"/>
                </a:rPr>
                <a:t>идентификация опасности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0" name="Text Box 13"/>
            <p:cNvSpPr/>
            <p:nvPr/>
          </p:nvSpPr>
          <p:spPr>
            <a:xfrm>
              <a:off x="5095440" y="3333600"/>
              <a:ext cx="3964320" cy="28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imes New Roman"/>
                </a:rPr>
                <a:t>планирование и проектирование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1" name="Text Box 14"/>
            <p:cNvSpPr/>
            <p:nvPr/>
          </p:nvSpPr>
          <p:spPr>
            <a:xfrm>
              <a:off x="5095440" y="4035240"/>
              <a:ext cx="3964320" cy="28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imes New Roman"/>
                </a:rPr>
                <a:t>строительство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2" name="Text Box 15"/>
            <p:cNvSpPr/>
            <p:nvPr/>
          </p:nvSpPr>
          <p:spPr>
            <a:xfrm>
              <a:off x="5086080" y="4387680"/>
              <a:ext cx="398448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99"/>
                  </a:solidFill>
                  <a:latin typeface="Times New Roman"/>
                </a:rPr>
                <a:t>ввод</a:t>
              </a:r>
              <a:r>
                <a:rPr b="0" lang="en-US" sz="1400" spc="-1" strike="noStrike">
                  <a:solidFill>
                    <a:srgbClr val="333399"/>
                  </a:solidFill>
                  <a:latin typeface="Times New Roman"/>
                </a:rPr>
                <a:t>/</a:t>
              </a:r>
              <a:r>
                <a:rPr b="0" lang="ru-RU" sz="1400" spc="-1" strike="noStrike">
                  <a:solidFill>
                    <a:srgbClr val="333399"/>
                  </a:solidFill>
                  <a:latin typeface="Times New Roman"/>
                </a:rPr>
                <a:t>вывод из эксплуатации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3" name="Text Box 16"/>
            <p:cNvSpPr/>
            <p:nvPr/>
          </p:nvSpPr>
          <p:spPr>
            <a:xfrm>
              <a:off x="5095440" y="4755960"/>
              <a:ext cx="3964320" cy="26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imes New Roman"/>
                </a:rPr>
                <a:t>эксплуатация и техническое обслуживание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4" name="Text Box 17"/>
            <p:cNvSpPr/>
            <p:nvPr/>
          </p:nvSpPr>
          <p:spPr>
            <a:xfrm>
              <a:off x="5095440" y="5089320"/>
              <a:ext cx="396432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imes New Roman"/>
                </a:rPr>
                <a:t>управление аварийными ситуациями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5" name="Text Box 18"/>
            <p:cNvSpPr/>
            <p:nvPr/>
          </p:nvSpPr>
          <p:spPr>
            <a:xfrm>
              <a:off x="5095440" y="5457960"/>
              <a:ext cx="3964320" cy="30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imes New Roman"/>
                </a:rPr>
                <a:t>мониторинг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6" name="Text Box 19"/>
            <p:cNvSpPr/>
            <p:nvPr/>
          </p:nvSpPr>
          <p:spPr>
            <a:xfrm>
              <a:off x="5095440" y="3684600"/>
              <a:ext cx="396432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imes New Roman"/>
                </a:rPr>
                <a:t>закупки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7" name="Text Box 20"/>
            <p:cNvSpPr/>
            <p:nvPr/>
          </p:nvSpPr>
          <p:spPr>
            <a:xfrm>
              <a:off x="5095440" y="5826240"/>
              <a:ext cx="396432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imes New Roman"/>
                </a:rPr>
                <a:t>аудит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8" name="Text Box 21"/>
            <p:cNvSpPr/>
            <p:nvPr/>
          </p:nvSpPr>
          <p:spPr>
            <a:xfrm>
              <a:off x="5095440" y="6529320"/>
              <a:ext cx="396432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imes New Roman"/>
                </a:rPr>
                <a:t>анализ системы управления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9" name="Text Box 22"/>
            <p:cNvSpPr/>
            <p:nvPr/>
          </p:nvSpPr>
          <p:spPr>
            <a:xfrm>
              <a:off x="5095440" y="6176880"/>
              <a:ext cx="396432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imes New Roman"/>
                </a:rPr>
                <a:t>ведение документации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80" name="AutoShape 24"/>
          <p:cNvSpPr/>
          <p:nvPr/>
        </p:nvSpPr>
        <p:spPr>
          <a:xfrm>
            <a:off x="3919680" y="4043520"/>
            <a:ext cx="739800" cy="258480"/>
          </a:xfrm>
          <a:prstGeom prst="rightArrow">
            <a:avLst>
              <a:gd name="adj1" fmla="val 50000"/>
              <a:gd name="adj2" fmla="val 715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1" name="Text Box 25"/>
          <p:cNvSpPr/>
          <p:nvPr/>
        </p:nvSpPr>
        <p:spPr>
          <a:xfrm>
            <a:off x="3713040" y="3110040"/>
            <a:ext cx="111600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требования по организации управления процессами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2" name="Text Box 27"/>
          <p:cNvSpPr/>
          <p:nvPr/>
        </p:nvSpPr>
        <p:spPr>
          <a:xfrm>
            <a:off x="868320" y="5059440"/>
            <a:ext cx="27702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imes New Roman"/>
              </a:rPr>
              <a:t>планирование</a:t>
            </a: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imes New Roman"/>
              </a:rPr>
              <a:t>реализация процессов</a:t>
            </a: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imes New Roman"/>
              </a:rPr>
              <a:t>контроль (мониторинг) и корректирующие действия</a:t>
            </a: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imes New Roman"/>
              </a:rPr>
              <a:t>распределение обязанностей и полномочий</a:t>
            </a: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3" name="Text Box 28"/>
          <p:cNvSpPr/>
          <p:nvPr/>
        </p:nvSpPr>
        <p:spPr>
          <a:xfrm>
            <a:off x="552600" y="3032280"/>
            <a:ext cx="287496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2" marL="35892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Times New Roman"/>
              </a:rPr>
              <a:t>задачи установления индикаторов измерения эксплуатационных характеристик для обеспечения безопасности и охраны окружающей среды и </a:t>
            </a: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lvl="2" marL="35892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Times New Roman"/>
              </a:rPr>
              <a:t>мониторинг выполнения требований по безопасности и защите окружающей среды)</a:t>
            </a: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lvl="2" marL="35892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7"/>
          <p:cNvSpPr/>
          <p:nvPr/>
        </p:nvSpPr>
        <p:spPr>
          <a:xfrm>
            <a:off x="0" y="1095480"/>
            <a:ext cx="9144000" cy="5762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158560" y="244080"/>
            <a:ext cx="69850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 Narrow"/>
              </a:rPr>
              <a:t>Задачи разработки и требования к стандарту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6" name="Rectangle 125"/>
          <p:cNvSpPr/>
          <p:nvPr/>
        </p:nvSpPr>
        <p:spPr>
          <a:xfrm>
            <a:off x="1547640" y="1282680"/>
            <a:ext cx="7596360" cy="1753560"/>
          </a:xfrm>
          <a:prstGeom prst="rect">
            <a:avLst/>
          </a:prstGeom>
          <a:solidFill>
            <a:srgbClr val="c9ed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1. Определение основных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требований к системе управлени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сетями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газораспределения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Идентификация основных процессов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обеспечивающих 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функционирование сетей газораспределения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пределение основных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требований к управлению отдельными</a:t>
            </a:r>
            <a:br>
              <a:rPr sz="1800"/>
            </a:b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    процесс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7" name="Rectangle 32"/>
          <p:cNvSpPr/>
          <p:nvPr/>
        </p:nvSpPr>
        <p:spPr>
          <a:xfrm>
            <a:off x="53280" y="128268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дач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8" name="Нижний колонтитул 3"/>
          <p:cNvSpPr/>
          <p:nvPr/>
        </p:nvSpPr>
        <p:spPr>
          <a:xfrm>
            <a:off x="2162160" y="6381720"/>
            <a:ext cx="6769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 Narrow"/>
              </a:rPr>
              <a:t>К разработке национального стандарта </a:t>
            </a:r>
            <a:r>
              <a:rPr b="0" lang="en-US" sz="1200" spc="-1" strike="noStrike">
                <a:solidFill>
                  <a:srgbClr val="003399"/>
                </a:solidFill>
                <a:latin typeface="Arial Narrow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3399"/>
                </a:solidFill>
                <a:latin typeface="Arial Narrow"/>
              </a:rPr>
              <a:t>«Системы газораспределительные. Система управления сетями газораспределения»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9" name="Rectangle 125"/>
          <p:cNvSpPr/>
          <p:nvPr/>
        </p:nvSpPr>
        <p:spPr>
          <a:xfrm>
            <a:off x="1547640" y="3333600"/>
            <a:ext cx="7596360" cy="3350880"/>
          </a:xfrm>
          <a:prstGeom prst="rect">
            <a:avLst/>
          </a:prstGeom>
          <a:solidFill>
            <a:srgbClr val="c9ed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10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 Narrow"/>
              </a:rPr>
              <a:t>1. Соответствие требованиям нормативной базы России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Narrow"/>
              </a:rPr>
              <a:t>2. </a:t>
            </a:r>
            <a:r>
              <a:rPr b="0" lang="ru-RU" sz="1800" spc="-1" strike="noStrike">
                <a:solidFill>
                  <a:srgbClr val="000099"/>
                </a:solidFill>
                <a:latin typeface="Arial Narrow"/>
              </a:rPr>
              <a:t>Учет основных положений региональных стандартов CEN/TS 15399:2007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 Narrow"/>
              </a:rPr>
              <a:t>    “Системы газоснабжения – Указания по системам управления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 Narrow"/>
              </a:rPr>
              <a:t>    газораспределительными сетями” и CEN/TS 15173:2006 “Системы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 Narrow"/>
              </a:rPr>
              <a:t>    газоснабжения – Концепция системы управления целостностью трубопровода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 Narrow"/>
              </a:rPr>
              <a:t>   (</a:t>
            </a:r>
            <a:r>
              <a:rPr b="0" lang="en-US" sz="1800" spc="-1" strike="noStrike">
                <a:solidFill>
                  <a:srgbClr val="000099"/>
                </a:solidFill>
                <a:latin typeface="Arial Narrow"/>
              </a:rPr>
              <a:t>PIMS</a:t>
            </a:r>
            <a:r>
              <a:rPr b="0" lang="ru-RU" sz="1800" spc="-1" strike="noStrike">
                <a:solidFill>
                  <a:srgbClr val="000099"/>
                </a:solidFill>
                <a:latin typeface="Arial Narrow"/>
              </a:rPr>
              <a:t>)”.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 Narrow"/>
              </a:rPr>
              <a:t>3.Обеспечение возможности интегрирования системы управления с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 Narrow"/>
              </a:rPr>
              <a:t>    соответствующими элементами систем менеджмента качества, экологического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 Narrow"/>
              </a:rPr>
              <a:t>    менеджмента, менеджмента охраны здоровья и безопасности персонала на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 Narrow"/>
              </a:rPr>
              <a:t>    основе ГОСТ Р ИСО 9001, ГОСТ Р ИСО 10006, ГОСТ Р ИСО 14001,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 Narrow"/>
              </a:rPr>
              <a:t>    ГОСТ 12.0.230</a:t>
            </a:r>
            <a:r>
              <a:rPr b="0" lang="ru-RU" sz="1600" spc="-1" strike="noStrike">
                <a:solidFill>
                  <a:srgbClr val="000099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0" name="Rectangle 13"/>
          <p:cNvSpPr/>
          <p:nvPr/>
        </p:nvSpPr>
        <p:spPr>
          <a:xfrm>
            <a:off x="55440" y="3333600"/>
            <a:ext cx="14893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ребования к стандарту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8"/>
          <p:cNvSpPr/>
          <p:nvPr/>
        </p:nvSpPr>
        <p:spPr>
          <a:xfrm>
            <a:off x="57240" y="2789280"/>
            <a:ext cx="137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едназначен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2" name="Rectangle 13"/>
          <p:cNvSpPr/>
          <p:nvPr/>
        </p:nvSpPr>
        <p:spPr>
          <a:xfrm>
            <a:off x="57240" y="3751200"/>
            <a:ext cx="15156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ожет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спользоваться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3" name="Rectangle 18"/>
          <p:cNvSpPr/>
          <p:nvPr/>
        </p:nvSpPr>
        <p:spPr>
          <a:xfrm>
            <a:off x="56880" y="5170320"/>
            <a:ext cx="1724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Не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спространяется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2158920" y="237960"/>
            <a:ext cx="698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Область применения стандарта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0" y="1076400"/>
            <a:ext cx="9144000" cy="5781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76320" y="1359000"/>
            <a:ext cx="154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едназначен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7" name="Rectangle 125"/>
          <p:cNvSpPr/>
          <p:nvPr/>
        </p:nvSpPr>
        <p:spPr>
          <a:xfrm>
            <a:off x="1916280" y="1359000"/>
            <a:ext cx="7108560" cy="993960"/>
          </a:xfrm>
          <a:prstGeom prst="rect">
            <a:avLst/>
          </a:prstGeom>
          <a:solidFill>
            <a:srgbClr val="c9ed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0" bIns="10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 Narrow"/>
              </a:rPr>
              <a:t>для организаций, в собственности которых или на иных законных основаниях находятся сети газораспределения, а также  для организаций, оказывающих услуги по технической эксплуатации сетей газораспределения</a:t>
            </a:r>
            <a:r>
              <a:rPr b="1" lang="en-US" sz="17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8" name="Rectangle 125"/>
          <p:cNvSpPr/>
          <p:nvPr/>
        </p:nvSpPr>
        <p:spPr>
          <a:xfrm>
            <a:off x="1916280" y="2822400"/>
            <a:ext cx="7108560" cy="1512360"/>
          </a:xfrm>
          <a:prstGeom prst="rect">
            <a:avLst/>
          </a:prstGeom>
          <a:solidFill>
            <a:srgbClr val="c9ed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0" bIns="10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 Narrow"/>
              </a:rPr>
              <a:t>юридическими лицами и предпринимателями без образования юридического лица, деятельность которых связана с проектированием, строительством (реконструкцией) и технической эксплуатацией сетей газораспределения, а также заказчиками проектов строительства (реконструкции) объектов капитального строительства, подключаемых к сетям газораспределения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9" name="Rectangle 13"/>
          <p:cNvSpPr/>
          <p:nvPr/>
        </p:nvSpPr>
        <p:spPr>
          <a:xfrm>
            <a:off x="77400" y="2822400"/>
            <a:ext cx="1706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ожет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спользоваться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0" name="Rectangle 125"/>
          <p:cNvSpPr/>
          <p:nvPr/>
        </p:nvSpPr>
        <p:spPr>
          <a:xfrm>
            <a:off x="1916280" y="4803840"/>
            <a:ext cx="7068960" cy="1253160"/>
          </a:xfrm>
          <a:prstGeom prst="rect">
            <a:avLst/>
          </a:prstGeom>
          <a:solidFill>
            <a:srgbClr val="c9ed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0" bIns="10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en-US" sz="1700" spc="-1" strike="noStrike">
                <a:solidFill>
                  <a:srgbClr val="333399"/>
                </a:solidFill>
                <a:latin typeface="Arial Narrow"/>
              </a:rPr>
              <a:t>- </a:t>
            </a:r>
            <a:r>
              <a:rPr b="1" lang="ru-RU" sz="1700" spc="-1" strike="noStrike">
                <a:solidFill>
                  <a:srgbClr val="333399"/>
                </a:solidFill>
                <a:latin typeface="Arial Narrow"/>
              </a:rPr>
              <a:t>на управление сетями  газопотребления</a:t>
            </a:r>
            <a:r>
              <a:rPr b="1" lang="en-US" sz="1700" spc="-1" strike="noStrike">
                <a:solidFill>
                  <a:srgbClr val="333399"/>
                </a:solidFill>
                <a:latin typeface="Arial Narrow"/>
              </a:rPr>
              <a:t>; </a:t>
            </a:r>
            <a:r>
              <a:rPr b="1" lang="ru-RU" sz="17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en-US" sz="1700" spc="-1" strike="noStrike">
                <a:solidFill>
                  <a:srgbClr val="333399"/>
                </a:solidFill>
                <a:latin typeface="Arial Narrow"/>
              </a:rPr>
              <a:t>- </a:t>
            </a:r>
            <a:r>
              <a:rPr b="1" lang="ru-RU" sz="1700" spc="-1" strike="noStrike">
                <a:solidFill>
                  <a:srgbClr val="333399"/>
                </a:solidFill>
                <a:latin typeface="Arial Narrow"/>
              </a:rPr>
              <a:t>на управление объектами, которые не идентифицированы в качестве</a:t>
            </a:r>
            <a:br>
              <a:rPr sz="1700"/>
            </a:br>
            <a:r>
              <a:rPr b="1" lang="en-US" sz="1700" spc="-1" strike="noStrike">
                <a:solidFill>
                  <a:srgbClr val="333399"/>
                </a:solidFill>
                <a:latin typeface="Arial Narrow"/>
              </a:rPr>
              <a:t>  </a:t>
            </a:r>
            <a:r>
              <a:rPr b="1" lang="ru-RU" sz="1700" spc="-1" strike="noStrike">
                <a:solidFill>
                  <a:srgbClr val="333399"/>
                </a:solidFill>
                <a:latin typeface="Arial Narrow"/>
              </a:rPr>
              <a:t> объекта технического регулирования в соответствии с Техническим</a:t>
            </a:r>
            <a:br>
              <a:rPr sz="1700"/>
            </a:br>
            <a:r>
              <a:rPr b="1" lang="en-US" sz="1700" spc="-1" strike="noStrike">
                <a:solidFill>
                  <a:srgbClr val="333399"/>
                </a:solidFill>
                <a:latin typeface="Arial Narrow"/>
              </a:rPr>
              <a:t>   </a:t>
            </a:r>
            <a:r>
              <a:rPr b="1" lang="ru-RU" sz="1700" spc="-1" strike="noStrike">
                <a:solidFill>
                  <a:srgbClr val="333399"/>
                </a:solidFill>
                <a:latin typeface="Arial Narrow"/>
              </a:rPr>
              <a:t> регламентом о безопасности сетей газораспределения и газопотребления 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1" name="Rectangle 18"/>
          <p:cNvSpPr/>
          <p:nvPr/>
        </p:nvSpPr>
        <p:spPr>
          <a:xfrm>
            <a:off x="77400" y="4803840"/>
            <a:ext cx="1724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Не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спространяется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158560" y="291960"/>
            <a:ext cx="698508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Цели и задачи системы управления</a:t>
            </a: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3" name="Нижний колонтитул 3"/>
          <p:cNvSpPr/>
          <p:nvPr/>
        </p:nvSpPr>
        <p:spPr>
          <a:xfrm>
            <a:off x="2144880" y="6362640"/>
            <a:ext cx="6769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 Narrow"/>
              </a:rPr>
              <a:t>К </a:t>
            </a:r>
            <a:r>
              <a:rPr b="0" lang="en-US" sz="1200" spc="-1" strike="noStrike">
                <a:solidFill>
                  <a:srgbClr val="003399"/>
                </a:solidFill>
                <a:latin typeface="Arial Narrow"/>
              </a:rPr>
              <a:t>разработке Р Газпром «Газораспределительные системы. Оценка и управление рисками реализации инвестиционных проектов строительства и реконструкции газораспределительных систем»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04" name="Picture 4" descr=""/>
          <p:cNvPicPr/>
          <p:nvPr/>
        </p:nvPicPr>
        <p:blipFill>
          <a:blip r:embed="rId1"/>
          <a:stretch/>
        </p:blipFill>
        <p:spPr>
          <a:xfrm>
            <a:off x="1946160" y="1700280"/>
            <a:ext cx="5853240" cy="391320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5"/>
          <p:cNvSpPr/>
          <p:nvPr/>
        </p:nvSpPr>
        <p:spPr>
          <a:xfrm>
            <a:off x="0" y="1050840"/>
            <a:ext cx="9153360" cy="5816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6" name="Text Box 25"/>
          <p:cNvSpPr/>
          <p:nvPr/>
        </p:nvSpPr>
        <p:spPr>
          <a:xfrm>
            <a:off x="360360" y="1111320"/>
            <a:ext cx="37879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7" name="Rectangle 27"/>
          <p:cNvSpPr/>
          <p:nvPr/>
        </p:nvSpPr>
        <p:spPr>
          <a:xfrm>
            <a:off x="144360" y="1022040"/>
            <a:ext cx="8866440" cy="1117800"/>
          </a:xfrm>
          <a:prstGeom prst="rect">
            <a:avLst/>
          </a:prstGeom>
          <a:solidFill>
            <a:srgbClr val="c9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истема управления сетями газораспределения: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 Комплекс организационно-технических мероприятий, реализуемых на всех стадиях жизненного цикла сети газораспределения, по обеспечению надлежащего функционирования сети газораспределения в соответствии с целями и задачами организации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8" name="Rectangle 125"/>
          <p:cNvSpPr/>
          <p:nvPr/>
        </p:nvSpPr>
        <p:spPr>
          <a:xfrm>
            <a:off x="1752480" y="2487600"/>
            <a:ext cx="7108920" cy="874440"/>
          </a:xfrm>
          <a:prstGeom prst="rect">
            <a:avLst/>
          </a:prstGeom>
          <a:solidFill>
            <a:srgbClr val="c9ed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обеспечение работоспособности и безопасности сети газораспределения на всех стадиях жизненного цикла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и минимизации стоимости цикла в целом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9" name="Rectangle 125"/>
          <p:cNvSpPr/>
          <p:nvPr/>
        </p:nvSpPr>
        <p:spPr>
          <a:xfrm>
            <a:off x="1752480" y="3706920"/>
            <a:ext cx="7124760" cy="2624760"/>
          </a:xfrm>
          <a:prstGeom prst="rect">
            <a:avLst/>
          </a:prstGeom>
          <a:solidFill>
            <a:srgbClr val="c9ed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marL="268200" indent="-268200">
              <a:spcBef>
                <a:spcPts val="425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99"/>
                </a:solidFill>
                <a:latin typeface="Arial Narrow"/>
              </a:rPr>
              <a:t>обеспечение </a:t>
            </a:r>
            <a:r>
              <a:rPr b="0" lang="ru-RU" sz="1700" spc="-1" strike="noStrike">
                <a:solidFill>
                  <a:srgbClr val="ff0066"/>
                </a:solidFill>
                <a:latin typeface="Arial Narrow"/>
              </a:rPr>
              <a:t>бесперебойной и безаварийной транспортировки газа</a:t>
            </a:r>
            <a:r>
              <a:rPr b="0" lang="ru-RU" sz="1700" spc="-1" strike="noStrike">
                <a:solidFill>
                  <a:srgbClr val="333399"/>
                </a:solidFill>
                <a:latin typeface="Arial Narrow"/>
              </a:rPr>
              <a:t> по сетям газораспределения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268200" indent="-268200">
              <a:spcBef>
                <a:spcPts val="425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99"/>
                </a:solidFill>
                <a:latin typeface="Arial Narrow"/>
              </a:rPr>
              <a:t>обеспечение </a:t>
            </a:r>
            <a:r>
              <a:rPr b="0" lang="ru-RU" sz="1700" spc="-1" strike="noStrike">
                <a:solidFill>
                  <a:srgbClr val="ff0066"/>
                </a:solidFill>
                <a:latin typeface="Arial Narrow"/>
              </a:rPr>
              <a:t>соответствия сети газораспределения нормативным требованиям безопасности</a:t>
            </a:r>
            <a:r>
              <a:rPr b="0" lang="ru-RU" sz="1700" spc="-1" strike="noStrike">
                <a:solidFill>
                  <a:srgbClr val="333399"/>
                </a:solidFill>
                <a:latin typeface="Arial Narrow"/>
              </a:rPr>
              <a:t> к технологическим процессам на всех стадиях жизненного цикла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268200" indent="-268200">
              <a:spcBef>
                <a:spcPts val="425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66"/>
                </a:solidFill>
                <a:latin typeface="Arial Narrow"/>
              </a:rPr>
              <a:t>определение технической возможности развития</a:t>
            </a:r>
            <a:r>
              <a:rPr b="0" lang="ru-RU" sz="1700" spc="-1" strike="noStrike">
                <a:solidFill>
                  <a:srgbClr val="333399"/>
                </a:solidFill>
                <a:latin typeface="Arial Narrow"/>
              </a:rPr>
              <a:t> сетей газораспределения для подключения потребителей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268200" indent="-268200">
              <a:spcBef>
                <a:spcPts val="425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99"/>
                </a:solidFill>
                <a:latin typeface="Arial Narrow"/>
              </a:rPr>
              <a:t>обеспечение э</a:t>
            </a:r>
            <a:r>
              <a:rPr b="0" lang="ru-RU" sz="1700" spc="-1" strike="noStrike">
                <a:solidFill>
                  <a:srgbClr val="ff0066"/>
                </a:solidFill>
                <a:latin typeface="Arial Narrow"/>
              </a:rPr>
              <a:t>нергоэффективности</a:t>
            </a:r>
            <a:r>
              <a:rPr b="0" lang="ru-RU" sz="1700" spc="-1" strike="noStrike">
                <a:solidFill>
                  <a:srgbClr val="333399"/>
                </a:solidFill>
                <a:latin typeface="Arial Narrow"/>
              </a:rPr>
              <a:t> работы сети газораспределения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268200" indent="-268200">
              <a:spcBef>
                <a:spcPts val="425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66"/>
                </a:solidFill>
                <a:latin typeface="Arial Narrow"/>
              </a:rPr>
              <a:t>минимизация негативного воздействия на окружающую среду</a:t>
            </a:r>
            <a:r>
              <a:rPr b="0" lang="ru-RU" sz="1700" spc="-1" strike="noStrike">
                <a:solidFill>
                  <a:srgbClr val="333399"/>
                </a:solidFill>
                <a:latin typeface="Arial Narrow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268200" indent="-268200">
              <a:spcBef>
                <a:spcPts val="425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99"/>
                </a:solidFill>
                <a:latin typeface="Arial Narrow"/>
              </a:rPr>
              <a:t>достижение и поддержание требуемой </a:t>
            </a:r>
            <a:r>
              <a:rPr b="0" lang="ru-RU" sz="1700" spc="-1" strike="noStrike">
                <a:solidFill>
                  <a:srgbClr val="ff0066"/>
                </a:solidFill>
                <a:latin typeface="Arial Narrow"/>
              </a:rPr>
              <a:t>компетентности персонала</a:t>
            </a:r>
            <a:r>
              <a:rPr b="0" lang="ru-RU" sz="17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0" name="Rectangle 30"/>
          <p:cNvSpPr/>
          <p:nvPr/>
        </p:nvSpPr>
        <p:spPr>
          <a:xfrm>
            <a:off x="162360" y="2496960"/>
            <a:ext cx="674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ел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1" name="Rectangle 31"/>
          <p:cNvSpPr/>
          <p:nvPr/>
        </p:nvSpPr>
        <p:spPr>
          <a:xfrm>
            <a:off x="181800" y="370692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дач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58560" y="240840"/>
            <a:ext cx="69850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Общая схема системы управления</a:t>
            </a: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3" name="Нижний колонтитул 3"/>
          <p:cNvSpPr/>
          <p:nvPr/>
        </p:nvSpPr>
        <p:spPr>
          <a:xfrm>
            <a:off x="2144880" y="6362640"/>
            <a:ext cx="6769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 Narrow"/>
              </a:rPr>
              <a:t>К </a:t>
            </a:r>
            <a:r>
              <a:rPr b="0" lang="en-US" sz="1200" spc="-1" strike="noStrike">
                <a:solidFill>
                  <a:srgbClr val="003399"/>
                </a:solidFill>
                <a:latin typeface="Arial Narrow"/>
              </a:rPr>
              <a:t>разработке Р Газпром «Газораспределительные системы. Оценка и управление рисками реализации инвестиционных проектов строительства и реконструкции газораспределительных систем»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14" name="Picture 4" descr=""/>
          <p:cNvPicPr/>
          <p:nvPr/>
        </p:nvPicPr>
        <p:blipFill>
          <a:blip r:embed="rId1"/>
          <a:stretch/>
        </p:blipFill>
        <p:spPr>
          <a:xfrm>
            <a:off x="1946160" y="1700280"/>
            <a:ext cx="5853240" cy="39132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25"/>
          <p:cNvSpPr/>
          <p:nvPr/>
        </p:nvSpPr>
        <p:spPr>
          <a:xfrm>
            <a:off x="0" y="1050840"/>
            <a:ext cx="9153360" cy="5816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6" name="Text Box 31"/>
          <p:cNvSpPr/>
          <p:nvPr/>
        </p:nvSpPr>
        <p:spPr>
          <a:xfrm>
            <a:off x="160200" y="1790640"/>
            <a:ext cx="2722680" cy="4103640"/>
          </a:xfrm>
          <a:prstGeom prst="rect">
            <a:avLst/>
          </a:prstGeom>
          <a:solidFill>
            <a:srgbClr val="c9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Требования  к процессу управления: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240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333399"/>
                </a:solidFill>
                <a:latin typeface="Times New Roman"/>
              </a:rPr>
              <a:t>планирование и контроль</a:t>
            </a:r>
            <a:br>
              <a:rPr sz="1500"/>
            </a:br>
            <a:r>
              <a:rPr b="0" lang="en-US" sz="1500" spc="-1" strike="noStrike">
                <a:solidFill>
                  <a:srgbClr val="333399"/>
                </a:solidFill>
                <a:latin typeface="Times New Roman"/>
              </a:rPr>
              <a:t>     результатов деятельности</a:t>
            </a:r>
            <a:endParaRPr b="0" lang="en-US" sz="1500" spc="-1" strike="noStrike">
              <a:solidFill>
                <a:srgbClr val="ffffff"/>
              </a:solidFill>
              <a:latin typeface="Arial Narrow"/>
            </a:endParaRPr>
          </a:p>
          <a:p>
            <a:pPr lvl="1" marL="3240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333399"/>
                </a:solidFill>
                <a:latin typeface="Times New Roman"/>
              </a:rPr>
              <a:t>определение обязанностей</a:t>
            </a:r>
            <a:br>
              <a:rPr sz="1500"/>
            </a:br>
            <a:r>
              <a:rPr b="0" lang="en-US" sz="1500" spc="-1" strike="noStrike">
                <a:solidFill>
                  <a:srgbClr val="333399"/>
                </a:solidFill>
                <a:latin typeface="Times New Roman"/>
              </a:rPr>
              <a:t>     руководства,</a:t>
            </a:r>
            <a:endParaRPr b="0" lang="en-US" sz="1500" spc="-1" strike="noStrike">
              <a:solidFill>
                <a:srgbClr val="ffffff"/>
              </a:solidFill>
              <a:latin typeface="Arial Narrow"/>
            </a:endParaRPr>
          </a:p>
          <a:p>
            <a:pPr lvl="1" marL="3240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333399"/>
                </a:solidFill>
                <a:latin typeface="Times New Roman"/>
              </a:rPr>
              <a:t>организация и</a:t>
            </a:r>
            <a:br>
              <a:rPr sz="1500"/>
            </a:br>
            <a:r>
              <a:rPr b="0" lang="en-US" sz="1500" spc="-1" strike="noStrike">
                <a:solidFill>
                  <a:srgbClr val="333399"/>
                </a:solidFill>
                <a:latin typeface="Times New Roman"/>
              </a:rPr>
              <a:t>    распределение </a:t>
            </a:r>
            <a:br>
              <a:rPr sz="1500"/>
            </a:br>
            <a:r>
              <a:rPr b="0" lang="en-US" sz="1500" spc="-1" strike="noStrike">
                <a:solidFill>
                  <a:srgbClr val="333399"/>
                </a:solidFill>
                <a:latin typeface="Times New Roman"/>
              </a:rPr>
              <a:t>    ответственностей,</a:t>
            </a:r>
            <a:endParaRPr b="0" lang="en-US" sz="1500" spc="-1" strike="noStrike">
              <a:solidFill>
                <a:srgbClr val="ffffff"/>
              </a:solidFill>
              <a:latin typeface="Arial Narrow"/>
            </a:endParaRPr>
          </a:p>
          <a:p>
            <a:pPr lvl="1" marL="3240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333399"/>
                </a:solidFill>
                <a:latin typeface="Times New Roman"/>
              </a:rPr>
              <a:t>идентификация и контроль</a:t>
            </a:r>
            <a:br>
              <a:rPr sz="1500"/>
            </a:br>
            <a:r>
              <a:rPr b="0" lang="en-US" sz="1500" spc="-1" strike="noStrike">
                <a:solidFill>
                  <a:srgbClr val="333399"/>
                </a:solidFill>
                <a:latin typeface="Times New Roman"/>
              </a:rPr>
              <a:t>    (мониторинг) опасностей ,</a:t>
            </a:r>
            <a:endParaRPr b="0" lang="en-US" sz="1500" spc="-1" strike="noStrike">
              <a:solidFill>
                <a:srgbClr val="ffffff"/>
              </a:solidFill>
              <a:latin typeface="Arial Narrow"/>
            </a:endParaRPr>
          </a:p>
          <a:p>
            <a:pPr lvl="1" marL="3240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333399"/>
                </a:solidFill>
                <a:latin typeface="Times New Roman"/>
              </a:rPr>
              <a:t>управление </a:t>
            </a:r>
            <a:br>
              <a:rPr sz="1500"/>
            </a:br>
            <a:r>
              <a:rPr b="0" lang="en-US" sz="1500" spc="-1" strike="noStrike">
                <a:solidFill>
                  <a:srgbClr val="333399"/>
                </a:solidFill>
                <a:latin typeface="Times New Roman"/>
              </a:rPr>
              <a:t>    информационными</a:t>
            </a:r>
            <a:br>
              <a:rPr sz="1500"/>
            </a:br>
            <a:r>
              <a:rPr b="0" lang="en-US" sz="1500" spc="-1" strike="noStrike">
                <a:solidFill>
                  <a:srgbClr val="333399"/>
                </a:solidFill>
                <a:latin typeface="Times New Roman"/>
              </a:rPr>
              <a:t>    потоками </a:t>
            </a:r>
            <a:endParaRPr b="0" lang="en-US" sz="1500" spc="-1" strike="noStrike">
              <a:solidFill>
                <a:srgbClr val="ffffff"/>
              </a:solidFill>
              <a:latin typeface="Arial Narrow"/>
            </a:endParaRPr>
          </a:p>
          <a:p>
            <a:pPr lvl="1" marL="3240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Times New Roman"/>
              </a:rPr>
              <a:t>аудит процессов управления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4379760" y="2448000"/>
            <a:ext cx="3211560" cy="2935080"/>
          </a:xfrm>
          <a:prstGeom prst="rect">
            <a:avLst/>
          </a:prstGeom>
          <a:solidFill>
            <a:srgbClr val="c9e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управление процессами, 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обеспечивающими функционирование 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сетей газораспределения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4361040" y="369576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жизненный цикл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сетей газораспределения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9" name="AutoShape 11"/>
          <p:cNvSpPr/>
          <p:nvPr/>
        </p:nvSpPr>
        <p:spPr>
          <a:xfrm>
            <a:off x="7670880" y="3900600"/>
            <a:ext cx="1395360" cy="4935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ланирование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0" name="AutoShape 12"/>
          <p:cNvSpPr/>
          <p:nvPr/>
        </p:nvSpPr>
        <p:spPr>
          <a:xfrm>
            <a:off x="5151600" y="5516640"/>
            <a:ext cx="1747800" cy="604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72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реализация процессов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1" name="AutoShape 13"/>
          <p:cNvSpPr/>
          <p:nvPr/>
        </p:nvSpPr>
        <p:spPr>
          <a:xfrm>
            <a:off x="2981160" y="3909960"/>
            <a:ext cx="1305000" cy="465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онтроль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" name="AutoShape 14"/>
          <p:cNvSpPr/>
          <p:nvPr/>
        </p:nvSpPr>
        <p:spPr>
          <a:xfrm>
            <a:off x="4967280" y="1585800"/>
            <a:ext cx="1981080" cy="650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овершенствование системы управления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" name="AutoShape 15"/>
          <p:cNvSpPr/>
          <p:nvPr/>
        </p:nvSpPr>
        <p:spPr>
          <a:xfrm>
            <a:off x="3489480" y="1927080"/>
            <a:ext cx="836280" cy="711360"/>
          </a:xfrm>
          <a:custGeom>
            <a:avLst/>
            <a:gdLst>
              <a:gd name="textAreaLeft" fmla="*/ 480960 w 836280"/>
              <a:gd name="textAreaRight" fmla="*/ 761760 w 836280"/>
              <a:gd name="textAreaTop" fmla="*/ 127080 h 711360"/>
              <a:gd name="textAreaBottom" fmla="*/ 273240 h 711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6315" y="0"/>
                </a:lnTo>
                <a:lnTo>
                  <a:pt x="16315" y="3876"/>
                </a:lnTo>
                <a:lnTo>
                  <a:pt x="12427" y="3876"/>
                </a:lnTo>
                <a:cubicBezTo>
                  <a:pt x="5564" y="3876"/>
                  <a:pt x="0" y="7584"/>
                  <a:pt x="0" y="12158"/>
                </a:cubicBezTo>
                <a:lnTo>
                  <a:pt x="0" y="21600"/>
                </a:lnTo>
                <a:lnTo>
                  <a:pt x="4503" y="21600"/>
                </a:lnTo>
                <a:lnTo>
                  <a:pt x="4503" y="12158"/>
                </a:lnTo>
                <a:cubicBezTo>
                  <a:pt x="4503" y="10017"/>
                  <a:pt x="8051" y="8282"/>
                  <a:pt x="12427" y="8282"/>
                </a:cubicBezTo>
                <a:lnTo>
                  <a:pt x="16315" y="8282"/>
                </a:lnTo>
                <a:lnTo>
                  <a:pt x="16315" y="12158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" name="AutoShape 16"/>
          <p:cNvSpPr/>
          <p:nvPr/>
        </p:nvSpPr>
        <p:spPr>
          <a:xfrm rot="5400000">
            <a:off x="7637760" y="1989720"/>
            <a:ext cx="836640" cy="711000"/>
          </a:xfrm>
          <a:custGeom>
            <a:avLst/>
            <a:gdLst>
              <a:gd name="textAreaLeft" fmla="*/ 480960 w 836640"/>
              <a:gd name="textAreaRight" fmla="*/ 762120 w 836640"/>
              <a:gd name="textAreaTop" fmla="*/ 126720 h 711000"/>
              <a:gd name="textAreaBottom" fmla="*/ 272880 h 711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6315" y="0"/>
                </a:lnTo>
                <a:lnTo>
                  <a:pt x="16315" y="3876"/>
                </a:lnTo>
                <a:lnTo>
                  <a:pt x="12427" y="3876"/>
                </a:lnTo>
                <a:cubicBezTo>
                  <a:pt x="5564" y="3876"/>
                  <a:pt x="0" y="7584"/>
                  <a:pt x="0" y="12158"/>
                </a:cubicBezTo>
                <a:lnTo>
                  <a:pt x="0" y="21600"/>
                </a:lnTo>
                <a:lnTo>
                  <a:pt x="4503" y="21600"/>
                </a:lnTo>
                <a:lnTo>
                  <a:pt x="4503" y="12158"/>
                </a:lnTo>
                <a:cubicBezTo>
                  <a:pt x="4503" y="10017"/>
                  <a:pt x="8051" y="8282"/>
                  <a:pt x="12427" y="8282"/>
                </a:cubicBezTo>
                <a:lnTo>
                  <a:pt x="16315" y="8282"/>
                </a:lnTo>
                <a:lnTo>
                  <a:pt x="16315" y="12158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" name="AutoShape 17"/>
          <p:cNvSpPr/>
          <p:nvPr/>
        </p:nvSpPr>
        <p:spPr>
          <a:xfrm rot="10800000">
            <a:off x="7576920" y="5187960"/>
            <a:ext cx="834840" cy="711360"/>
          </a:xfrm>
          <a:custGeom>
            <a:avLst/>
            <a:gdLst>
              <a:gd name="textAreaLeft" fmla="*/ 480960 w 834840"/>
              <a:gd name="textAreaRight" fmla="*/ 760320 w 834840"/>
              <a:gd name="textAreaTop" fmla="*/ 127080 h 711360"/>
              <a:gd name="textAreaBottom" fmla="*/ 273240 h 711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6315" y="0"/>
                </a:lnTo>
                <a:lnTo>
                  <a:pt x="16315" y="3876"/>
                </a:lnTo>
                <a:lnTo>
                  <a:pt x="12427" y="3876"/>
                </a:lnTo>
                <a:cubicBezTo>
                  <a:pt x="5564" y="3876"/>
                  <a:pt x="0" y="7584"/>
                  <a:pt x="0" y="12158"/>
                </a:cubicBezTo>
                <a:lnTo>
                  <a:pt x="0" y="21600"/>
                </a:lnTo>
                <a:lnTo>
                  <a:pt x="4503" y="21600"/>
                </a:lnTo>
                <a:lnTo>
                  <a:pt x="4503" y="12158"/>
                </a:lnTo>
                <a:cubicBezTo>
                  <a:pt x="4503" y="10017"/>
                  <a:pt x="8051" y="8282"/>
                  <a:pt x="12427" y="8282"/>
                </a:cubicBezTo>
                <a:lnTo>
                  <a:pt x="16315" y="8282"/>
                </a:lnTo>
                <a:lnTo>
                  <a:pt x="16315" y="12158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" name="AutoShape 18"/>
          <p:cNvSpPr/>
          <p:nvPr/>
        </p:nvSpPr>
        <p:spPr>
          <a:xfrm rot="16200000">
            <a:off x="3432240" y="5121360"/>
            <a:ext cx="835200" cy="720720"/>
          </a:xfrm>
          <a:custGeom>
            <a:avLst/>
            <a:gdLst>
              <a:gd name="textAreaLeft" fmla="*/ 481320 w 835200"/>
              <a:gd name="textAreaRight" fmla="*/ 760680 w 835200"/>
              <a:gd name="textAreaTop" fmla="*/ 128520 h 720720"/>
              <a:gd name="textAreaBottom" fmla="*/ 2761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6315" y="0"/>
                </a:lnTo>
                <a:lnTo>
                  <a:pt x="16315" y="3876"/>
                </a:lnTo>
                <a:lnTo>
                  <a:pt x="12427" y="3876"/>
                </a:lnTo>
                <a:cubicBezTo>
                  <a:pt x="5564" y="3876"/>
                  <a:pt x="0" y="7584"/>
                  <a:pt x="0" y="12158"/>
                </a:cubicBezTo>
                <a:lnTo>
                  <a:pt x="0" y="21600"/>
                </a:lnTo>
                <a:lnTo>
                  <a:pt x="4503" y="21600"/>
                </a:lnTo>
                <a:lnTo>
                  <a:pt x="4503" y="12158"/>
                </a:lnTo>
                <a:cubicBezTo>
                  <a:pt x="4503" y="10017"/>
                  <a:pt x="8051" y="8282"/>
                  <a:pt x="12427" y="8282"/>
                </a:cubicBezTo>
                <a:lnTo>
                  <a:pt x="16315" y="8282"/>
                </a:lnTo>
                <a:lnTo>
                  <a:pt x="16315" y="12158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" name="Text Box 19"/>
          <p:cNvSpPr/>
          <p:nvPr/>
        </p:nvSpPr>
        <p:spPr>
          <a:xfrm>
            <a:off x="5078520" y="4405320"/>
            <a:ext cx="20016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основные процессы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" name="Text Box 20"/>
          <p:cNvSpPr/>
          <p:nvPr/>
        </p:nvSpPr>
        <p:spPr>
          <a:xfrm>
            <a:off x="5087880" y="4944960"/>
            <a:ext cx="205596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дополняющие процессы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" name="Line 21"/>
          <p:cNvSpPr/>
          <p:nvPr/>
        </p:nvSpPr>
        <p:spPr>
          <a:xfrm flipV="1">
            <a:off x="5327640" y="47574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" name="Line 22"/>
          <p:cNvSpPr/>
          <p:nvPr/>
        </p:nvSpPr>
        <p:spPr>
          <a:xfrm flipV="1">
            <a:off x="6589800" y="47574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" name="Line 23"/>
          <p:cNvSpPr/>
          <p:nvPr/>
        </p:nvSpPr>
        <p:spPr>
          <a:xfrm flipV="1">
            <a:off x="5746680" y="47574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" name="Line 24"/>
          <p:cNvSpPr/>
          <p:nvPr/>
        </p:nvSpPr>
        <p:spPr>
          <a:xfrm flipV="1">
            <a:off x="6168960" y="47574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4387680" y="2432160"/>
            <a:ext cx="3205440" cy="520200"/>
          </a:xfrm>
          <a:prstGeom prst="rect">
            <a:avLst/>
          </a:prstGeom>
          <a:solidFill>
            <a:srgbClr val="c9e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ИСТЕМА УПРАВЛЕНИЯ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Times New Roman"/>
              </a:rPr>
              <a:t>сетями газораспределения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" name=""/>
          <p:cNvSpPr/>
          <p:nvPr/>
        </p:nvSpPr>
        <p:spPr>
          <a:xfrm>
            <a:off x="4452840" y="3618000"/>
            <a:ext cx="3060720" cy="1709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158560" y="52560"/>
            <a:ext cx="6985080" cy="8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Процессы, обеспечивающие функционирование сетей газораспределения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6" name="Нижний колонтитул 3"/>
          <p:cNvSpPr/>
          <p:nvPr/>
        </p:nvSpPr>
        <p:spPr>
          <a:xfrm>
            <a:off x="2144880" y="6362640"/>
            <a:ext cx="6769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 Narrow"/>
              </a:rPr>
              <a:t>К </a:t>
            </a:r>
            <a:r>
              <a:rPr b="0" lang="en-US" sz="1200" spc="-1" strike="noStrike">
                <a:solidFill>
                  <a:srgbClr val="003399"/>
                </a:solidFill>
                <a:latin typeface="Arial Narrow"/>
              </a:rPr>
              <a:t>разработке Р Газпром «Газораспределительные системы. Оценка и управление рисками реализации инвестиционных проектов строительства и реконструкции газораспределительных систем»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7" name="Text Box 196"/>
          <p:cNvSpPr/>
          <p:nvPr/>
        </p:nvSpPr>
        <p:spPr>
          <a:xfrm>
            <a:off x="-630360" y="7027920"/>
            <a:ext cx="808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8" name="Rectangle 200"/>
          <p:cNvSpPr/>
          <p:nvPr/>
        </p:nvSpPr>
        <p:spPr>
          <a:xfrm>
            <a:off x="892080" y="2525760"/>
            <a:ext cx="698508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Схема и основные процессы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9" name="Rectangle 201"/>
          <p:cNvSpPr/>
          <p:nvPr/>
        </p:nvSpPr>
        <p:spPr>
          <a:xfrm>
            <a:off x="0" y="1049400"/>
            <a:ext cx="9144000" cy="580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0" name="Text Box 205"/>
          <p:cNvSpPr/>
          <p:nvPr/>
        </p:nvSpPr>
        <p:spPr>
          <a:xfrm>
            <a:off x="138240" y="2678040"/>
            <a:ext cx="3590640" cy="30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Основные </a:t>
            </a: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производственные процессы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1" name="Text Box 206"/>
          <p:cNvSpPr/>
          <p:nvPr/>
        </p:nvSpPr>
        <p:spPr>
          <a:xfrm>
            <a:off x="2338560" y="1832040"/>
            <a:ext cx="396396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ПРОЦЕСС УПРАВЛЕНИЯ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2" name="Text Box 207"/>
          <p:cNvSpPr/>
          <p:nvPr/>
        </p:nvSpPr>
        <p:spPr>
          <a:xfrm>
            <a:off x="272880" y="3479760"/>
            <a:ext cx="3262320" cy="355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Проектирование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3" name="Text Box 208"/>
          <p:cNvSpPr/>
          <p:nvPr/>
        </p:nvSpPr>
        <p:spPr>
          <a:xfrm>
            <a:off x="282600" y="4514760"/>
            <a:ext cx="3281400" cy="482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Ввод в эксплуатацию, вывод из эксплуатации, консервация, ликвидация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4" name="Text Box 210"/>
          <p:cNvSpPr/>
          <p:nvPr/>
        </p:nvSpPr>
        <p:spPr>
          <a:xfrm>
            <a:off x="5257800" y="2678040"/>
            <a:ext cx="3624120" cy="30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Дополняющие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процессы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5" name="Text Box 211"/>
          <p:cNvSpPr/>
          <p:nvPr/>
        </p:nvSpPr>
        <p:spPr>
          <a:xfrm>
            <a:off x="5435640" y="3508200"/>
            <a:ext cx="3243240" cy="336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Управление персоналом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6" name="Text Box 212"/>
          <p:cNvSpPr/>
          <p:nvPr/>
        </p:nvSpPr>
        <p:spPr>
          <a:xfrm>
            <a:off x="5450040" y="4033800"/>
            <a:ext cx="3233520" cy="338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Материально-техническое обеспечение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7" name="Text Box 213"/>
          <p:cNvSpPr/>
          <p:nvPr/>
        </p:nvSpPr>
        <p:spPr>
          <a:xfrm>
            <a:off x="5462640" y="4562640"/>
            <a:ext cx="3270240" cy="338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Взаимодействие с вовлеченными сторонами</a:t>
            </a:r>
            <a:r>
              <a:rPr b="0" lang="en-US" sz="17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8" name="Line 214"/>
          <p:cNvSpPr/>
          <p:nvPr/>
        </p:nvSpPr>
        <p:spPr>
          <a:xfrm flipH="1">
            <a:off x="2981160" y="2320920"/>
            <a:ext cx="268560" cy="284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9" name="Line 215"/>
          <p:cNvSpPr/>
          <p:nvPr/>
        </p:nvSpPr>
        <p:spPr>
          <a:xfrm>
            <a:off x="5462640" y="2320920"/>
            <a:ext cx="320760" cy="284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0" name="Text Box 219"/>
          <p:cNvSpPr/>
          <p:nvPr/>
        </p:nvSpPr>
        <p:spPr>
          <a:xfrm>
            <a:off x="2319480" y="6164280"/>
            <a:ext cx="396396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Аудит процесса управления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1" name="Text Box 220"/>
          <p:cNvSpPr/>
          <p:nvPr/>
        </p:nvSpPr>
        <p:spPr>
          <a:xfrm>
            <a:off x="5497560" y="5091120"/>
            <a:ext cx="3198600" cy="425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Обеспечение безопасности и охрана окружающей среды 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2" name="Text Box 224"/>
          <p:cNvSpPr/>
          <p:nvPr/>
        </p:nvSpPr>
        <p:spPr>
          <a:xfrm>
            <a:off x="282600" y="4000680"/>
            <a:ext cx="3270240" cy="347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Строительство</a:t>
            </a: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реконструкция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3" name="Text Box 225"/>
          <p:cNvSpPr/>
          <p:nvPr/>
        </p:nvSpPr>
        <p:spPr>
          <a:xfrm>
            <a:off x="282600" y="5167440"/>
            <a:ext cx="3308400" cy="349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Эксплуатаци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я 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4" name="Text Box 226"/>
          <p:cNvSpPr/>
          <p:nvPr/>
        </p:nvSpPr>
        <p:spPr>
          <a:xfrm>
            <a:off x="268200" y="1170000"/>
            <a:ext cx="81154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 Narrow"/>
              </a:rPr>
              <a:t>Процессы = виды деятельности (действия) и соответствующие ресурсы 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5" name="AutoShape 227"/>
          <p:cNvSpPr/>
          <p:nvPr/>
        </p:nvSpPr>
        <p:spPr>
          <a:xfrm>
            <a:off x="4257720" y="3533760"/>
            <a:ext cx="403200" cy="142920"/>
          </a:xfrm>
          <a:prstGeom prst="leftArrow">
            <a:avLst>
              <a:gd name="adj1" fmla="val 50000"/>
              <a:gd name="adj2" fmla="val 70529"/>
            </a:avLst>
          </a:prstGeom>
          <a:solidFill>
            <a:srgbClr val="c9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6" name="AutoShape 228"/>
          <p:cNvSpPr/>
          <p:nvPr/>
        </p:nvSpPr>
        <p:spPr>
          <a:xfrm>
            <a:off x="4257720" y="4044960"/>
            <a:ext cx="403200" cy="142920"/>
          </a:xfrm>
          <a:prstGeom prst="leftArrow">
            <a:avLst>
              <a:gd name="adj1" fmla="val 50000"/>
              <a:gd name="adj2" fmla="val 70529"/>
            </a:avLst>
          </a:prstGeom>
          <a:solidFill>
            <a:srgbClr val="c9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7" name="AutoShape 229"/>
          <p:cNvSpPr/>
          <p:nvPr/>
        </p:nvSpPr>
        <p:spPr>
          <a:xfrm>
            <a:off x="4257720" y="4556160"/>
            <a:ext cx="403200" cy="142920"/>
          </a:xfrm>
          <a:prstGeom prst="leftArrow">
            <a:avLst>
              <a:gd name="adj1" fmla="val 50000"/>
              <a:gd name="adj2" fmla="val 70529"/>
            </a:avLst>
          </a:prstGeom>
          <a:solidFill>
            <a:srgbClr val="c9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8" name="AutoShape 230"/>
          <p:cNvSpPr/>
          <p:nvPr/>
        </p:nvSpPr>
        <p:spPr>
          <a:xfrm>
            <a:off x="4257720" y="5067360"/>
            <a:ext cx="403200" cy="142920"/>
          </a:xfrm>
          <a:prstGeom prst="leftArrow">
            <a:avLst>
              <a:gd name="adj1" fmla="val 50000"/>
              <a:gd name="adj2" fmla="val 70529"/>
            </a:avLst>
          </a:prstGeom>
          <a:solidFill>
            <a:srgbClr val="c9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9" name="Line 231"/>
          <p:cNvSpPr/>
          <p:nvPr/>
        </p:nvSpPr>
        <p:spPr>
          <a:xfrm flipH="1" flipV="1">
            <a:off x="3160800" y="5815080"/>
            <a:ext cx="312480" cy="272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0" name="Line 232"/>
          <p:cNvSpPr/>
          <p:nvPr/>
        </p:nvSpPr>
        <p:spPr>
          <a:xfrm flipV="1">
            <a:off x="5462640" y="5788080"/>
            <a:ext cx="222120" cy="28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06:14:24Z</dcterms:created>
  <dc:creator>M_Krasilnikova</dc:creator>
  <dc:description/>
  <dc:language>en-US</dc:language>
  <cp:lastModifiedBy>1</cp:lastModifiedBy>
  <dcterms:modified xsi:type="dcterms:W3CDTF">2012-09-12T03:23:48Z</dcterms:modified>
  <cp:revision>142</cp:revision>
  <dc:subject/>
  <dc:title>Слайд 1</dc:title>
</cp:coreProperties>
</file>