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dt" idx="16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body"/>
          </p:nvPr>
        </p:nvSpPr>
        <p:spPr>
          <a:xfrm>
            <a:off x="711000" y="4862160"/>
            <a:ext cx="56768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ftr" idx="17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 type="sldNum" idx="18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8B173D-E414-4D74-B740-E8686F132A6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11000" y="4862160"/>
            <a:ext cx="56768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Номер слайда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B05FA39-FF52-4310-84E8-20F24F634E22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688A-431E-4DEF-93B5-795E99CCD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41EDB-C82E-47E7-A710-5B7CEDF5FC5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A9751-A907-414A-A785-BAFC3771DE8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F3CAE-B43C-4556-8A72-0C15E14EB12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2158560" y="-360"/>
            <a:ext cx="6985080" cy="46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48736-ABA8-4B11-8F52-5F2D85131AE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AF54B-DBE4-4F88-BC15-363F96FD5CC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7B47B-AC11-4678-883C-77639EE1051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1224F-56EE-4E85-9B49-F446589F626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5AFAD-9D79-4326-AF50-268B89FB556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B8E8E-E975-4C73-ADC4-DC4FA076FF3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09168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18336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09168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18336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9AAF3-7D98-42A3-A91C-053E94B17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B59AB-AE63-4300-A55B-2F552F78F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09168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336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09168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336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62566-8F26-49F7-985C-8BD50F1D88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D92D-0D71-47A1-A9BD-4DA43CC61D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B879-F8D8-4708-9F1B-A65A4AB73F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DEBC-C9AA-441E-8E2A-C8F62EDC14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386D-8448-4AF1-9205-C48C5FEDC7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2CAB-1C0F-455D-A1C8-C6ACFD626E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158560" y="-360"/>
            <a:ext cx="6985080" cy="46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BDBA-84DB-4427-A010-A0ABB8AB97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09DA-2A8A-46C0-BE49-46517291FD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B906E-9F57-4BE7-8C13-BDD721E253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251B-41C8-4D7C-ACAD-93441C659B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6416-B302-4DB6-869D-166F5C738F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21FF-495A-423D-A3EC-E3051856DA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1872-A798-4B87-AB9E-DD3094B94A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9168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8336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09168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8336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9DF5-A5BB-4087-B9A9-9277F069413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F1094-FD20-4219-A039-8D4C20BD65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16429-74E8-4E32-B052-A918913ABE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0592F-0139-4793-B301-94C70CC9BF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058AB-1394-4965-8014-CF683A9676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3B8F0-CA1C-4937-9B59-B4607EE72F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32C51-EA3B-4373-906E-8B8490D4A8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158560" y="-360"/>
            <a:ext cx="6985080" cy="46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3CDD9-6614-4E4F-B2F9-95AA4FF6B0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3855A-5BEE-48B0-9288-4FC3D4F32C4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70F86-2B0D-4901-B1A7-2608E92A67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DFB19-1334-4DA7-B539-0DD67506BA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86A39-713F-4A29-9E42-D403746E93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D83D5-3D5B-4453-B4F8-B361C94ADE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09168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8336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09168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8336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13C98-2719-43AF-B8E1-03F587EE21F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94FF9C-5727-4FD2-B0B1-5E0C46013C8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28CB77-9C9C-45DC-BAC6-4B8322C75DA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8B7935-C038-478D-B348-0AD18B0F4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90FAE-C6AD-4DDF-8E8E-E092E1BC76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2F1164-6F1C-44CE-822E-A803C0665DD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933865-6B81-4859-8A8B-86058C7D675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158560" y="-360"/>
            <a:ext cx="6985080" cy="46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BD80EF-1503-440D-AF87-FE8E100904A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B5D50B-2FE6-4861-901B-8B45A97CF01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AA515C-3DF7-477D-BB6F-E2E7A781CB1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1FB063-2695-4A45-B209-F5040B0DA04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A5A8FF-771F-4BBB-A808-081FADCAFCE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9FAC1D-FA29-4792-A1B7-7CF2B2B8EC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09168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8336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09168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8336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A15596-707B-47C7-A8E8-C0213969B6C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40391-5966-49E0-9F30-46D36F923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59558-565A-4F4A-B6CF-45255172006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C1211-BA35-45D8-9FF3-8C259A73273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7BED8-6163-43E1-819F-7E93022C212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46A51-9990-4BC2-9481-12DFBBA079D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A3C9E-D06A-4235-AD19-D52CF434C54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2158560" y="-360"/>
            <a:ext cx="6985080" cy="46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5B5FF-7535-499E-BF70-08D8A06EE23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263AB-E4C8-4302-8771-C62248CC974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92ED0-8313-4CD5-BAFF-31B7D9BAB8E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E8FF5-958A-40D5-913D-0744A367972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EE2CD-F912-49C3-AB3E-A57CF7BAC75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FC0D4-95A4-4546-A712-B91AED368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158560" y="-360"/>
            <a:ext cx="6985080" cy="46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CAE6A-CCCD-4802-9A07-4ECC46AEF3B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09168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8336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09168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18336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74BA2-2369-498D-9C29-B6D30054D6D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123DCD-9A00-4115-86A5-9E410DCA490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F3173A-4F5F-4EDA-B57A-504DA24183E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E62B04-3358-48CD-A7F4-B3BAABCEF70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067445-3B09-468F-BAAA-1F3D9343D27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8BDA89-6FDD-4568-9536-ECE220E1DD2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2158560" y="-360"/>
            <a:ext cx="6985080" cy="46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932B1E-D659-49E4-ACF2-E417E6C62EC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65E7C8-C5CD-44CC-B525-F90D7D0FA1C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1E7E66-BDCE-479F-843E-F5DA18BFCDA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58BABE-674A-40AA-982C-AA86379D4D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94907-8892-4070-9A30-C3B93B0281F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729CAC-B927-4C92-A1C6-A4617FDFE03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1CE2B3-44E8-40B8-BEEE-F3BA3D59045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9168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8336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09168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18336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6907B2-5FED-4316-9B6E-49115307137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2158560" y="-360"/>
            <a:ext cx="6985080" cy="46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1334E-33D0-4517-B6BF-CDFBF16337B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09168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18336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09168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18336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D8F00-DFE7-41B1-AF44-29DDA212504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2158560" y="-360"/>
            <a:ext cx="6985080" cy="46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09168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18336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09168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18336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50CE9-3366-4C24-B166-EA4F0375E28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088B9-6675-4337-8EBB-26552C8DD2A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D0666-6AE4-4F91-8D0C-FBA7568A3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 fontScale="55000"/>
          </a:bodyPr>
          <a:p>
            <a:pPr marL="188640" indent="-188640"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Click to edit the outline text format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1" marL="408600" indent="-156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econd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2" marL="628560" indent="-125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Third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3" marL="879840" indent="-1256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Four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4" marL="1131480" indent="-1256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Fif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5" marL="1131480" indent="-1256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ix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6" marL="1131480" indent="-1256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even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0" y="6318360"/>
            <a:ext cx="9144000" cy="539640"/>
            <a:chOff x="0" y="6318360"/>
            <a:chExt cx="9144000" cy="539640"/>
          </a:xfrm>
        </p:grpSpPr>
        <p:sp>
          <p:nvSpPr>
            <p:cNvPr id="2" name="Rectangle 4"/>
            <p:cNvSpPr/>
            <p:nvPr/>
          </p:nvSpPr>
          <p:spPr>
            <a:xfrm>
              <a:off x="0" y="6318360"/>
              <a:ext cx="1936800" cy="5396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1943280" y="6318360"/>
              <a:ext cx="7200720" cy="539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1936800" y="6318360"/>
              <a:ext cx="0" cy="5396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" name="Rectangle 7"/>
          <p:cNvSpPr/>
          <p:nvPr/>
        </p:nvSpPr>
        <p:spPr>
          <a:xfrm>
            <a:off x="0" y="0"/>
            <a:ext cx="1936800" cy="1079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943280" y="0"/>
            <a:ext cx="7200720" cy="10796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Line 9"/>
          <p:cNvSpPr/>
          <p:nvPr/>
        </p:nvSpPr>
        <p:spPr>
          <a:xfrm>
            <a:off x="1936800" y="0"/>
            <a:ext cx="0" cy="10796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204840" y="6362280"/>
            <a:ext cx="14875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#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144520" y="6362280"/>
            <a:ext cx="67690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ВАНИЕ ПРЕЗЕНТ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Line 14"/>
          <p:cNvSpPr/>
          <p:nvPr/>
        </p:nvSpPr>
        <p:spPr>
          <a:xfrm>
            <a:off x="0" y="631512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Line 15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" name="Picture 16" descr="TransGazKazan"/>
          <p:cNvPicPr/>
          <p:nvPr/>
        </p:nvPicPr>
        <p:blipFill>
          <a:blip r:embed="rId2"/>
          <a:stretch/>
        </p:blipFill>
        <p:spPr>
          <a:xfrm>
            <a:off x="168120" y="128520"/>
            <a:ext cx="156060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 fontScale="55000"/>
          </a:bodyPr>
          <a:p>
            <a:pPr marL="188640" indent="-188640"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Click to edit the outline text format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1" marL="408600" indent="-156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econd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2" marL="628560" indent="-125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Third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3" marL="879840" indent="-1256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Four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4" marL="1131480" indent="-1256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Fif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5" marL="1131480" indent="-1256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ix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6" marL="1131480" indent="-1256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even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1940040" y="2606760"/>
            <a:ext cx="7203960" cy="3713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0" y="6318360"/>
            <a:ext cx="9144000" cy="539640"/>
            <a:chOff x="0" y="6318360"/>
            <a:chExt cx="9144000" cy="539640"/>
          </a:xfrm>
        </p:grpSpPr>
        <p:sp>
          <p:nvSpPr>
            <p:cNvPr id="53" name="Rectangle 4"/>
            <p:cNvSpPr/>
            <p:nvPr/>
          </p:nvSpPr>
          <p:spPr>
            <a:xfrm>
              <a:off x="0" y="6318360"/>
              <a:ext cx="1936800" cy="5396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943280" y="6318360"/>
              <a:ext cx="7200720" cy="539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" name="Line 6"/>
            <p:cNvSpPr/>
            <p:nvPr/>
          </p:nvSpPr>
          <p:spPr>
            <a:xfrm>
              <a:off x="1936800" y="6318360"/>
              <a:ext cx="0" cy="5396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6" name="Rectangle 7"/>
          <p:cNvSpPr/>
          <p:nvPr/>
        </p:nvSpPr>
        <p:spPr>
          <a:xfrm>
            <a:off x="0" y="0"/>
            <a:ext cx="1936800" cy="1079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1943280" y="0"/>
            <a:ext cx="7200720" cy="10796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Line 9"/>
          <p:cNvSpPr/>
          <p:nvPr/>
        </p:nvSpPr>
        <p:spPr>
          <a:xfrm>
            <a:off x="1936800" y="0"/>
            <a:ext cx="0" cy="10796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3"/>
          </p:nvPr>
        </p:nvSpPr>
        <p:spPr>
          <a:xfrm>
            <a:off x="204840" y="6362280"/>
            <a:ext cx="14875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BA8D-7418-48FD-9A01-5CEFF160C9EB}" type="slidenum"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4"/>
          </p:nvPr>
        </p:nvSpPr>
        <p:spPr>
          <a:xfrm>
            <a:off x="2144520" y="6362280"/>
            <a:ext cx="67690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ВАНИЕ ПРЕЗЕНТ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1"/>
          <p:cNvSpPr/>
          <p:nvPr/>
        </p:nvSpPr>
        <p:spPr>
          <a:xfrm>
            <a:off x="0" y="631512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Line 22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4" name="Picture 23" descr="TransGazKazan"/>
          <p:cNvPicPr/>
          <p:nvPr/>
        </p:nvPicPr>
        <p:blipFill>
          <a:blip r:embed="rId2"/>
          <a:stretch/>
        </p:blipFill>
        <p:spPr>
          <a:xfrm>
            <a:off x="168120" y="128520"/>
            <a:ext cx="156060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 fontScale="55000"/>
          </a:bodyPr>
          <a:p>
            <a:pPr marL="188640" indent="-188640"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Click to edit the outline text format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1" marL="408600" indent="-156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econd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2" marL="628560" indent="-125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Third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3" marL="879840" indent="-1256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Four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4" marL="1131480" indent="-1256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Fif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5" marL="1131480" indent="-1256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ix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6" marL="1131480" indent="-1256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even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0" y="2604960"/>
            <a:ext cx="9144000" cy="37134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0" y="6318360"/>
            <a:ext cx="9144000" cy="539640"/>
            <a:chOff x="0" y="6318360"/>
            <a:chExt cx="9144000" cy="539640"/>
          </a:xfrm>
        </p:grpSpPr>
        <p:sp>
          <p:nvSpPr>
            <p:cNvPr id="104" name="Rectangle 4"/>
            <p:cNvSpPr/>
            <p:nvPr/>
          </p:nvSpPr>
          <p:spPr>
            <a:xfrm>
              <a:off x="0" y="6318360"/>
              <a:ext cx="1936800" cy="5396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" name="Rectangle 5"/>
            <p:cNvSpPr/>
            <p:nvPr/>
          </p:nvSpPr>
          <p:spPr>
            <a:xfrm>
              <a:off x="1943280" y="6318360"/>
              <a:ext cx="7200720" cy="539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" name="Line 6"/>
            <p:cNvSpPr/>
            <p:nvPr/>
          </p:nvSpPr>
          <p:spPr>
            <a:xfrm>
              <a:off x="1936800" y="6318360"/>
              <a:ext cx="0" cy="5396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07" name="Rectangle 7"/>
          <p:cNvSpPr/>
          <p:nvPr/>
        </p:nvSpPr>
        <p:spPr>
          <a:xfrm>
            <a:off x="0" y="0"/>
            <a:ext cx="1936800" cy="1079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943280" y="0"/>
            <a:ext cx="7200720" cy="10796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1936800" y="0"/>
            <a:ext cx="0" cy="10796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5"/>
          </p:nvPr>
        </p:nvSpPr>
        <p:spPr>
          <a:xfrm>
            <a:off x="204840" y="6362280"/>
            <a:ext cx="14875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1DC5-BF7E-437E-B376-F6AE8B9A259F}" type="slidenum"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6"/>
          </p:nvPr>
        </p:nvSpPr>
        <p:spPr>
          <a:xfrm>
            <a:off x="2144520" y="6362280"/>
            <a:ext cx="67690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ВАНИЕ ПРЕЗЕНТ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755640" y="7605720"/>
            <a:ext cx="410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0" y="631512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16" name="Picture 23" descr="TransGazKazan"/>
          <p:cNvPicPr/>
          <p:nvPr/>
        </p:nvPicPr>
        <p:blipFill>
          <a:blip r:embed="rId2"/>
          <a:stretch/>
        </p:blipFill>
        <p:spPr>
          <a:xfrm>
            <a:off x="168120" y="128520"/>
            <a:ext cx="156060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0" y="1079640"/>
            <a:ext cx="9144000" cy="107928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 fontScale="33000"/>
          </a:bodyPr>
          <a:p>
            <a:pPr marL="113040" indent="-113040">
              <a:spcBef>
                <a:spcPts val="649"/>
              </a:spcBef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Click to edit the outline text format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1" marL="245160" indent="-943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econd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2" marL="376920" indent="-75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Third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3" marL="527760" indent="-752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Four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4" marL="678600" indent="-7524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Fif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5" marL="678600" indent="-7524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ix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6" marL="678600" indent="-7524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even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4" name="Rectangle 23"/>
          <p:cNvSpPr/>
          <p:nvPr/>
        </p:nvSpPr>
        <p:spPr>
          <a:xfrm>
            <a:off x="0" y="2158920"/>
            <a:ext cx="9144000" cy="4160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0" y="6318360"/>
            <a:ext cx="9144000" cy="539640"/>
            <a:chOff x="0" y="6318360"/>
            <a:chExt cx="9144000" cy="539640"/>
          </a:xfrm>
        </p:grpSpPr>
        <p:sp>
          <p:nvSpPr>
            <p:cNvPr id="156" name="Rectangle 4"/>
            <p:cNvSpPr/>
            <p:nvPr/>
          </p:nvSpPr>
          <p:spPr>
            <a:xfrm>
              <a:off x="0" y="6318360"/>
              <a:ext cx="1936800" cy="5396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7" name="Rectangle 5"/>
            <p:cNvSpPr/>
            <p:nvPr/>
          </p:nvSpPr>
          <p:spPr>
            <a:xfrm>
              <a:off x="1943280" y="6318360"/>
              <a:ext cx="7200720" cy="539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8" name="Line 6"/>
            <p:cNvSpPr/>
            <p:nvPr/>
          </p:nvSpPr>
          <p:spPr>
            <a:xfrm>
              <a:off x="1936800" y="6318360"/>
              <a:ext cx="0" cy="5396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59" name="Rectangle 7"/>
          <p:cNvSpPr/>
          <p:nvPr/>
        </p:nvSpPr>
        <p:spPr>
          <a:xfrm>
            <a:off x="0" y="0"/>
            <a:ext cx="1936800" cy="1079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1943280" y="0"/>
            <a:ext cx="7200720" cy="10796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1936800" y="0"/>
            <a:ext cx="0" cy="10796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7"/>
          </p:nvPr>
        </p:nvSpPr>
        <p:spPr>
          <a:xfrm>
            <a:off x="204840" y="6362280"/>
            <a:ext cx="14875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6FE3-B7FD-4153-B451-77E7243A606B}" type="slidenum"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8"/>
          </p:nvPr>
        </p:nvSpPr>
        <p:spPr>
          <a:xfrm>
            <a:off x="2144520" y="6362280"/>
            <a:ext cx="67690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ВАНИЕ ПРЕЗЕНТ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755640" y="7605720"/>
            <a:ext cx="410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Line 24"/>
          <p:cNvSpPr/>
          <p:nvPr/>
        </p:nvSpPr>
        <p:spPr>
          <a:xfrm>
            <a:off x="0" y="631512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" name="Line 25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8" name="Picture 26" descr="TransGazKazan"/>
          <p:cNvPicPr/>
          <p:nvPr/>
        </p:nvPicPr>
        <p:blipFill>
          <a:blip r:embed="rId2"/>
          <a:stretch/>
        </p:blipFill>
        <p:spPr>
          <a:xfrm>
            <a:off x="168120" y="128520"/>
            <a:ext cx="156060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1935000" y="1077840"/>
            <a:ext cx="7209000" cy="52624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06" name="Group 3"/>
          <p:cNvGrpSpPr/>
          <p:nvPr/>
        </p:nvGrpSpPr>
        <p:grpSpPr>
          <a:xfrm>
            <a:off x="0" y="6318360"/>
            <a:ext cx="9144000" cy="539640"/>
            <a:chOff x="0" y="6318360"/>
            <a:chExt cx="9144000" cy="539640"/>
          </a:xfrm>
        </p:grpSpPr>
        <p:sp>
          <p:nvSpPr>
            <p:cNvPr id="207" name="Rectangle 4"/>
            <p:cNvSpPr/>
            <p:nvPr/>
          </p:nvSpPr>
          <p:spPr>
            <a:xfrm>
              <a:off x="0" y="6318360"/>
              <a:ext cx="1936800" cy="5396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8" name="Rectangle 5"/>
            <p:cNvSpPr/>
            <p:nvPr/>
          </p:nvSpPr>
          <p:spPr>
            <a:xfrm>
              <a:off x="1943280" y="6318360"/>
              <a:ext cx="7200720" cy="539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9" name="Line 6"/>
            <p:cNvSpPr/>
            <p:nvPr/>
          </p:nvSpPr>
          <p:spPr>
            <a:xfrm>
              <a:off x="1936800" y="6318360"/>
              <a:ext cx="0" cy="5396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10" name="Rectangle 7"/>
          <p:cNvSpPr/>
          <p:nvPr/>
        </p:nvSpPr>
        <p:spPr>
          <a:xfrm>
            <a:off x="0" y="0"/>
            <a:ext cx="1936800" cy="1079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1943280" y="0"/>
            <a:ext cx="7200720" cy="10796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1936800" y="0"/>
            <a:ext cx="0" cy="10796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0" y="1082160"/>
            <a:ext cx="1936800" cy="52261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 fontScale="39000"/>
          </a:bodyPr>
          <a:p>
            <a:pPr marL="133560" indent="-133560"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Click to edit the outline text format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1" marL="322200" indent="-1112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econd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2" marL="48168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Third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3" marL="640440" indent="-889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Four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4" marL="802080" indent="-8892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Fif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5" marL="802080" indent="-8892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ix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6" marL="802080" indent="-8892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even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9"/>
          </p:nvPr>
        </p:nvSpPr>
        <p:spPr>
          <a:xfrm>
            <a:off x="204840" y="6362280"/>
            <a:ext cx="14875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8042-D730-4135-89CC-AC58F6391ED9}" type="slidenum"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0"/>
          </p:nvPr>
        </p:nvSpPr>
        <p:spPr>
          <a:xfrm>
            <a:off x="2144520" y="6362280"/>
            <a:ext cx="67690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ВАНИЕ ПРЕЗЕНТ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5"/>
          <p:cNvSpPr/>
          <p:nvPr/>
        </p:nvSpPr>
        <p:spPr>
          <a:xfrm>
            <a:off x="755640" y="7605720"/>
            <a:ext cx="410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0" y="631512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9" name="Line 18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0" name="Picture 20" descr="TransGazKazan"/>
          <p:cNvPicPr/>
          <p:nvPr/>
        </p:nvPicPr>
        <p:blipFill>
          <a:blip r:embed="rId2"/>
          <a:stretch/>
        </p:blipFill>
        <p:spPr>
          <a:xfrm>
            <a:off x="168120" y="128520"/>
            <a:ext cx="156060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057480" y="1087560"/>
            <a:ext cx="6086520" cy="52513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58" name="Group 3"/>
          <p:cNvGrpSpPr/>
          <p:nvPr/>
        </p:nvGrpSpPr>
        <p:grpSpPr>
          <a:xfrm>
            <a:off x="0" y="6318360"/>
            <a:ext cx="9144000" cy="539640"/>
            <a:chOff x="0" y="6318360"/>
            <a:chExt cx="9144000" cy="539640"/>
          </a:xfrm>
        </p:grpSpPr>
        <p:sp>
          <p:nvSpPr>
            <p:cNvPr id="259" name="Rectangle 4"/>
            <p:cNvSpPr/>
            <p:nvPr/>
          </p:nvSpPr>
          <p:spPr>
            <a:xfrm>
              <a:off x="0" y="6318360"/>
              <a:ext cx="1936800" cy="5396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>
              <a:off x="1943280" y="6318360"/>
              <a:ext cx="7200720" cy="539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1" name="Line 6"/>
            <p:cNvSpPr/>
            <p:nvPr/>
          </p:nvSpPr>
          <p:spPr>
            <a:xfrm>
              <a:off x="1936800" y="6318360"/>
              <a:ext cx="0" cy="5396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62" name="Rectangle 7"/>
          <p:cNvSpPr/>
          <p:nvPr/>
        </p:nvSpPr>
        <p:spPr>
          <a:xfrm>
            <a:off x="0" y="0"/>
            <a:ext cx="1936800" cy="1079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1943280" y="0"/>
            <a:ext cx="7200720" cy="10796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1936800" y="0"/>
            <a:ext cx="0" cy="10796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0" y="1099800"/>
            <a:ext cx="3059280" cy="52261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 fontScale="76000"/>
          </a:bodyPr>
          <a:p>
            <a:pPr marL="260640" indent="-260640"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Click to edit the outline text format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1" marL="628200" indent="-2167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econd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2" marL="938520" indent="-17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Third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3" marL="1248480" indent="-1735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Four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4" marL="1563480" indent="-17352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Fif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5" marL="1563480" indent="-17352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ix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6" marL="1563480" indent="-17352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even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1"/>
          </p:nvPr>
        </p:nvSpPr>
        <p:spPr>
          <a:xfrm>
            <a:off x="204840" y="6362280"/>
            <a:ext cx="14875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A4C3-04C1-48C7-A8A9-710904E4B2D7}" type="slidenum"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2"/>
          </p:nvPr>
        </p:nvSpPr>
        <p:spPr>
          <a:xfrm>
            <a:off x="2144520" y="6362280"/>
            <a:ext cx="67690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ВАНИЕ ПРЕЗЕНТ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755640" y="7605720"/>
            <a:ext cx="410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0" name="Line 16"/>
          <p:cNvSpPr/>
          <p:nvPr/>
        </p:nvSpPr>
        <p:spPr>
          <a:xfrm>
            <a:off x="0" y="631512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Line 1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Picture 19" descr="TransGazKazan"/>
          <p:cNvPicPr/>
          <p:nvPr/>
        </p:nvPicPr>
        <p:blipFill>
          <a:blip r:embed="rId2"/>
          <a:stretch/>
        </p:blipFill>
        <p:spPr>
          <a:xfrm>
            <a:off x="168120" y="128520"/>
            <a:ext cx="156060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0" y="6318360"/>
            <a:ext cx="9144000" cy="539640"/>
            <a:chOff x="0" y="6318360"/>
            <a:chExt cx="9144000" cy="539640"/>
          </a:xfrm>
        </p:grpSpPr>
        <p:sp>
          <p:nvSpPr>
            <p:cNvPr id="311" name="Rectangle 5"/>
            <p:cNvSpPr/>
            <p:nvPr/>
          </p:nvSpPr>
          <p:spPr>
            <a:xfrm>
              <a:off x="0" y="6318360"/>
              <a:ext cx="1936800" cy="5396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1943280" y="6318360"/>
              <a:ext cx="7200720" cy="539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3" name="Line 7"/>
            <p:cNvSpPr/>
            <p:nvPr/>
          </p:nvSpPr>
          <p:spPr>
            <a:xfrm>
              <a:off x="1936800" y="6318360"/>
              <a:ext cx="0" cy="5396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14" name="Rectangle 8"/>
          <p:cNvSpPr/>
          <p:nvPr/>
        </p:nvSpPr>
        <p:spPr>
          <a:xfrm>
            <a:off x="0" y="0"/>
            <a:ext cx="1936800" cy="1079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1943280" y="0"/>
            <a:ext cx="7200720" cy="10796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6" name="Line 10"/>
          <p:cNvSpPr/>
          <p:nvPr/>
        </p:nvSpPr>
        <p:spPr>
          <a:xfrm>
            <a:off x="1936800" y="0"/>
            <a:ext cx="0" cy="10796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ftr" idx="13"/>
          </p:nvPr>
        </p:nvSpPr>
        <p:spPr>
          <a:xfrm>
            <a:off x="2144520" y="6362280"/>
            <a:ext cx="67690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ВАНИЕ ПРЕЗЕНТ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755640" y="7605720"/>
            <a:ext cx="410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0" name="Line 16"/>
          <p:cNvSpPr/>
          <p:nvPr/>
        </p:nvSpPr>
        <p:spPr>
          <a:xfrm>
            <a:off x="0" y="631512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1" name="Line 1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22" name="Picture 18" descr="TransGazKazan"/>
          <p:cNvPicPr/>
          <p:nvPr/>
        </p:nvPicPr>
        <p:blipFill>
          <a:blip r:embed="rId2"/>
          <a:stretch/>
        </p:blipFill>
        <p:spPr>
          <a:xfrm>
            <a:off x="168120" y="128520"/>
            <a:ext cx="156060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0" y="6313320"/>
            <a:ext cx="9144000" cy="544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Rectangle 13"/>
          <p:cNvSpPr/>
          <p:nvPr/>
        </p:nvSpPr>
        <p:spPr>
          <a:xfrm>
            <a:off x="0" y="0"/>
            <a:ext cx="1936800" cy="1079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2" name="Rectangle 14"/>
          <p:cNvSpPr/>
          <p:nvPr/>
        </p:nvSpPr>
        <p:spPr>
          <a:xfrm>
            <a:off x="1943280" y="0"/>
            <a:ext cx="7200720" cy="10796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3" name="Line 15"/>
          <p:cNvSpPr/>
          <p:nvPr/>
        </p:nvSpPr>
        <p:spPr>
          <a:xfrm>
            <a:off x="1936800" y="0"/>
            <a:ext cx="0" cy="10796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Line 33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5" name="Line 34"/>
          <p:cNvSpPr/>
          <p:nvPr/>
        </p:nvSpPr>
        <p:spPr>
          <a:xfrm>
            <a:off x="0" y="631512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66" name="Picture 35" descr="TransGazKazan"/>
          <p:cNvPicPr/>
          <p:nvPr/>
        </p:nvPicPr>
        <p:blipFill>
          <a:blip r:embed="rId2"/>
          <a:stretch/>
        </p:blipFill>
        <p:spPr>
          <a:xfrm>
            <a:off x="168120" y="128520"/>
            <a:ext cx="156060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3"/>
          <p:cNvGrpSpPr/>
          <p:nvPr/>
        </p:nvGrpSpPr>
        <p:grpSpPr>
          <a:xfrm>
            <a:off x="0" y="6318360"/>
            <a:ext cx="9144000" cy="539640"/>
            <a:chOff x="0" y="6318360"/>
            <a:chExt cx="9144000" cy="539640"/>
          </a:xfrm>
        </p:grpSpPr>
        <p:sp>
          <p:nvSpPr>
            <p:cNvPr id="404" name="Rectangle 4"/>
            <p:cNvSpPr/>
            <p:nvPr/>
          </p:nvSpPr>
          <p:spPr>
            <a:xfrm>
              <a:off x="0" y="6318360"/>
              <a:ext cx="1936800" cy="5396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5" name="Rectangle 5"/>
            <p:cNvSpPr/>
            <p:nvPr/>
          </p:nvSpPr>
          <p:spPr>
            <a:xfrm>
              <a:off x="1943280" y="6318360"/>
              <a:ext cx="7200720" cy="539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6" name="Line 6"/>
            <p:cNvSpPr/>
            <p:nvPr/>
          </p:nvSpPr>
          <p:spPr>
            <a:xfrm>
              <a:off x="1936800" y="6318360"/>
              <a:ext cx="0" cy="5396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07" name="Rectangle 7"/>
          <p:cNvSpPr/>
          <p:nvPr/>
        </p:nvSpPr>
        <p:spPr>
          <a:xfrm>
            <a:off x="0" y="0"/>
            <a:ext cx="1936800" cy="1079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1943280" y="0"/>
            <a:ext cx="7200720" cy="10796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9" name="Line 9"/>
          <p:cNvSpPr/>
          <p:nvPr/>
        </p:nvSpPr>
        <p:spPr>
          <a:xfrm>
            <a:off x="1936800" y="0"/>
            <a:ext cx="0" cy="10796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0" name="Line 14"/>
          <p:cNvSpPr/>
          <p:nvPr/>
        </p:nvSpPr>
        <p:spPr>
          <a:xfrm>
            <a:off x="0" y="631512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1" name="Line 15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12" name="Picture 16" descr="TransGazKazan"/>
          <p:cNvPicPr/>
          <p:nvPr/>
        </p:nvPicPr>
        <p:blipFill>
          <a:blip r:embed="rId2"/>
          <a:stretch/>
        </p:blipFill>
        <p:spPr>
          <a:xfrm>
            <a:off x="168120" y="128520"/>
            <a:ext cx="1560600" cy="7682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 fontScale="55000"/>
          </a:bodyPr>
          <a:p>
            <a:pPr marL="188640" indent="-188640"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Click to edit the outline text format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1" marL="408600" indent="-156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econd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2" marL="628560" indent="-125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Third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3" marL="879840" indent="-1256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Four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4" marL="1131480" indent="-1256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Fif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5" marL="1131480" indent="-1256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ix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6" marL="1131480" indent="-1256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even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ftr" idx="14"/>
          </p:nvPr>
        </p:nvSpPr>
        <p:spPr>
          <a:xfrm>
            <a:off x="2144520" y="6362280"/>
            <a:ext cx="67690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седание ПК 4/ТК 23 С.-Петербург 20 декабря 2011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sldNum" idx="15"/>
          </p:nvPr>
        </p:nvSpPr>
        <p:spPr>
          <a:xfrm>
            <a:off x="204840" y="6362280"/>
            <a:ext cx="14875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7F68-E85E-4D36-AC40-07D8FA4A9BF7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Line 10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1" name="Line 11"/>
          <p:cNvSpPr/>
          <p:nvPr/>
        </p:nvSpPr>
        <p:spPr>
          <a:xfrm>
            <a:off x="0" y="108252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2" name="Rectangle 12"/>
          <p:cNvSpPr/>
          <p:nvPr/>
        </p:nvSpPr>
        <p:spPr>
          <a:xfrm>
            <a:off x="1938240" y="6362640"/>
            <a:ext cx="7205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сентября 2012 г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1924200" y="1087560"/>
            <a:ext cx="721980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4" name="Rectangle 8"/>
          <p:cNvSpPr/>
          <p:nvPr/>
        </p:nvSpPr>
        <p:spPr>
          <a:xfrm>
            <a:off x="776160" y="1497240"/>
            <a:ext cx="756468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разработке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оектов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национальных стандартов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АО «Газпром промгаз»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.о. директора НТЦ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Нормирование в газоснабжении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газификации регионов РФ»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.П. Сафронова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158920" y="123840"/>
            <a:ext cx="67946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Перечень  стандартов и рекомендаций  ОАО «Газпром», предлагаемых в качестве основы для разработки предварительных  или национальных стандартов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85480" y="1266840"/>
            <a:ext cx="8591400" cy="498168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Narrow"/>
              </a:rPr>
              <a:t>СТО Газпром 2‑2.3‑357‑2009   </a:t>
            </a:r>
            <a:r>
              <a:rPr b="1" lang="ru-RU" sz="1600" spc="-1" strike="noStrike">
                <a:solidFill>
                  <a:srgbClr val="0000ff"/>
                </a:solidFill>
                <a:latin typeface="Arial Narrow"/>
              </a:rPr>
              <a:t>Методы присоединения вновь построенных или реконструируемых газовых сетей к действующим газопроводам</a:t>
            </a:r>
            <a:endParaRPr b="1" lang="en-US" sz="1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Narrow"/>
              </a:rPr>
              <a:t>СТО Газпром 2‑2.3‑602‑2011  </a:t>
            </a:r>
            <a:r>
              <a:rPr b="1" lang="ru-RU" sz="1600" spc="-1" strike="noStrike">
                <a:solidFill>
                  <a:srgbClr val="0000ff"/>
                </a:solidFill>
                <a:latin typeface="Arial Narrow"/>
              </a:rPr>
              <a:t>Газораспределительные системы. Технология производства работ на стальных подземных газопроводах врезкой под давлением</a:t>
            </a:r>
            <a:endParaRPr b="1" lang="en-US" sz="1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Narrow"/>
              </a:rPr>
              <a:t>СТО Газпром 2‑2.2‑504‑2010  </a:t>
            </a:r>
            <a:r>
              <a:rPr b="1" lang="ru-RU" sz="1600" spc="-1" strike="noStrike">
                <a:solidFill>
                  <a:srgbClr val="0000ff"/>
                </a:solidFill>
                <a:latin typeface="Arial Narrow"/>
              </a:rPr>
              <a:t>Инструкция по проектированию, строительству и эксплуатации распределительных газопроводов из полиэтиленовых армированных труб</a:t>
            </a:r>
            <a:endParaRPr b="1" lang="en-US" sz="1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Narrow"/>
              </a:rPr>
              <a:t>СТО Газпром 2-2.3-631-2012  </a:t>
            </a:r>
            <a:r>
              <a:rPr b="1" lang="ru-RU" sz="1600" spc="-1" strike="noStrike">
                <a:solidFill>
                  <a:srgbClr val="0000ff"/>
                </a:solidFill>
                <a:latin typeface="Arial Narrow"/>
              </a:rPr>
              <a:t>Газораспределительные системы. Показатели надежности газораспределительных систем</a:t>
            </a:r>
            <a:endParaRPr b="1" lang="en-US" sz="1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Narrow"/>
              </a:rPr>
              <a:t>Р Газпром 2‑2.3‑518‑2010  </a:t>
            </a:r>
            <a:r>
              <a:rPr b="1" lang="ru-RU" sz="1600" spc="-1" strike="noStrike">
                <a:solidFill>
                  <a:srgbClr val="0000ff"/>
                </a:solidFill>
                <a:latin typeface="Arial Narrow"/>
              </a:rPr>
              <a:t>Оценка влияния отказов в системах газораспределения на безопасность и надежность газоснабжения на основе методов риск-анализа</a:t>
            </a:r>
            <a:endParaRPr b="1" lang="en-US" sz="1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Narrow"/>
              </a:rPr>
              <a:t>Р Газпром 2‑2.3‑574‑2011  </a:t>
            </a:r>
            <a:r>
              <a:rPr b="1" lang="ru-RU" sz="1600" spc="-1" strike="noStrike">
                <a:solidFill>
                  <a:srgbClr val="0000ff"/>
                </a:solidFill>
                <a:latin typeface="Arial Narrow"/>
              </a:rPr>
              <a:t>Газораспределительные системы. Нормативные значения показателей эксплуатационной надежности</a:t>
            </a:r>
            <a:endParaRPr b="1" lang="en-US" sz="1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Narrow"/>
              </a:rPr>
              <a:t>Р Газпром 2-2.3-485-2010  </a:t>
            </a:r>
            <a:r>
              <a:rPr b="1" lang="ru-RU" sz="1600" spc="-1" strike="noStrike">
                <a:solidFill>
                  <a:srgbClr val="0000ff"/>
                </a:solidFill>
                <a:latin typeface="Arial Narrow"/>
              </a:rPr>
              <a:t>Расчет показателей  надежности системы  газораспределения</a:t>
            </a:r>
            <a:endParaRPr b="1" lang="en-US" sz="1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Narrow"/>
              </a:rPr>
              <a:t>Р Газпром 2‑1.3‑502‑2010  </a:t>
            </a:r>
            <a:r>
              <a:rPr b="1" lang="ru-RU" sz="1600" spc="-1" strike="noStrike">
                <a:solidFill>
                  <a:srgbClr val="0000ff"/>
                </a:solidFill>
                <a:latin typeface="Arial Narrow"/>
              </a:rPr>
              <a:t>Типовые планы локализации и ликвидации аварий на системах распределения и использования газа</a:t>
            </a:r>
            <a:endParaRPr b="1" lang="en-US" sz="1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Narrow"/>
              </a:rPr>
              <a:t>Р Газпром 2‑1.17-587‑2011  </a:t>
            </a:r>
            <a:r>
              <a:rPr b="1" lang="ru-RU" sz="1600" spc="-1" strike="noStrike">
                <a:solidFill>
                  <a:srgbClr val="0000ff"/>
                </a:solidFill>
                <a:latin typeface="Arial Narrow"/>
              </a:rPr>
              <a:t>Газораспределительные системы. Локализация и ликвидация аварий</a:t>
            </a:r>
            <a:endParaRPr b="1" lang="en-US" sz="1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Narrow"/>
              </a:rPr>
              <a:t>Р Газпром 059‑2009  </a:t>
            </a:r>
            <a:r>
              <a:rPr b="1" lang="ru-RU" sz="1600" spc="-1" strike="noStrike">
                <a:solidFill>
                  <a:srgbClr val="0000ff"/>
                </a:solidFill>
                <a:latin typeface="Arial Narrow"/>
              </a:rPr>
              <a:t>Газораспределительные системы. Рекомендации по легализации «бесхозяйных» газопроводов и сооружений на них</a:t>
            </a:r>
            <a:endParaRPr b="1" lang="en-US" sz="1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87" name="Прямоугольник 3"/>
          <p:cNvSpPr/>
          <p:nvPr/>
        </p:nvSpPr>
        <p:spPr>
          <a:xfrm>
            <a:off x="2286000" y="6419880"/>
            <a:ext cx="641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седание ТК 23 Санкт-Петербург,  12 сентября 2012 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0" y="1079640"/>
            <a:ext cx="9144000" cy="468288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Спасибо за внимание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89" name="Номер слайда 3"/>
          <p:cNvSpPr/>
          <p:nvPr/>
        </p:nvSpPr>
        <p:spPr>
          <a:xfrm>
            <a:off x="204840" y="6362640"/>
            <a:ext cx="148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0" name="Нижний колонтитул 4"/>
          <p:cNvSpPr/>
          <p:nvPr/>
        </p:nvSpPr>
        <p:spPr>
          <a:xfrm>
            <a:off x="2144880" y="6448320"/>
            <a:ext cx="67690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седание ТК 23 Санкт-Петербург,  12 сентября 2012 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Line 2"/>
          <p:cNvSpPr/>
          <p:nvPr/>
        </p:nvSpPr>
        <p:spPr>
          <a:xfrm>
            <a:off x="4468680" y="4129200"/>
            <a:ext cx="42840" cy="137772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6" name="Line 3"/>
          <p:cNvSpPr/>
          <p:nvPr/>
        </p:nvSpPr>
        <p:spPr>
          <a:xfrm flipH="1">
            <a:off x="4571640" y="2124000"/>
            <a:ext cx="1019160" cy="3812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7" name="Line 4"/>
          <p:cNvSpPr/>
          <p:nvPr/>
        </p:nvSpPr>
        <p:spPr>
          <a:xfrm>
            <a:off x="3686040" y="2076480"/>
            <a:ext cx="990720" cy="4381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8" name="Rectangle 12"/>
          <p:cNvSpPr/>
          <p:nvPr/>
        </p:nvSpPr>
        <p:spPr>
          <a:xfrm>
            <a:off x="2144880" y="6381720"/>
            <a:ext cx="6769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седание ТК 23 Санкт-Петербург,  12 сентября 2012 г.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9" name="Rectangle 11"/>
          <p:cNvSpPr/>
          <p:nvPr/>
        </p:nvSpPr>
        <p:spPr>
          <a:xfrm>
            <a:off x="108000" y="6381720"/>
            <a:ext cx="148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1221-5070-4B5A-B5ED-90D0EE2E2CEE}" type="slidenum">
              <a:rPr b="1" lang="ru-RU" sz="2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0" name="Line 10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1" name="Line 11"/>
          <p:cNvSpPr/>
          <p:nvPr/>
        </p:nvSpPr>
        <p:spPr>
          <a:xfrm>
            <a:off x="0" y="108252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1924200" y="1106640"/>
            <a:ext cx="721980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3" name="Rectangle 2"/>
          <p:cNvSpPr/>
          <p:nvPr/>
        </p:nvSpPr>
        <p:spPr>
          <a:xfrm>
            <a:off x="2158920" y="-27000"/>
            <a:ext cx="69850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4" name="AutoShape 11"/>
          <p:cNvSpPr/>
          <p:nvPr/>
        </p:nvSpPr>
        <p:spPr>
          <a:xfrm>
            <a:off x="6732720" y="2501280"/>
            <a:ext cx="2226960" cy="16430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ГОСТ Р 54960-201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стемы газораспределительные. Пункты газорегуляторные блочные. Пункты редуцирования газа шкафные. Общие технические требования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5" name="AutoShape 13"/>
          <p:cNvSpPr/>
          <p:nvPr/>
        </p:nvSpPr>
        <p:spPr>
          <a:xfrm>
            <a:off x="2990880" y="2534760"/>
            <a:ext cx="3152880" cy="1643760"/>
          </a:xfrm>
          <a:prstGeom prst="flowChartAlternateProcess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Проект ГОСТ 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ы газораспределительные. Пункты редуцирования газа. Функциональные требования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6" name="AutoShape 15"/>
          <p:cNvSpPr/>
          <p:nvPr/>
        </p:nvSpPr>
        <p:spPr>
          <a:xfrm>
            <a:off x="539640" y="5516640"/>
            <a:ext cx="8209080" cy="647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СП 62.13330.2011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азораспределительные системы. Актуализированная редакция СНиП 42-01-2002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77" name="Group 16"/>
          <p:cNvGrpSpPr/>
          <p:nvPr/>
        </p:nvGrpSpPr>
        <p:grpSpPr>
          <a:xfrm>
            <a:off x="312840" y="1272600"/>
            <a:ext cx="8642160" cy="853920"/>
            <a:chOff x="312840" y="1272600"/>
            <a:chExt cx="8642160" cy="853920"/>
          </a:xfrm>
        </p:grpSpPr>
        <p:sp>
          <p:nvSpPr>
            <p:cNvPr id="478" name="AutoShape 17"/>
            <p:cNvSpPr/>
            <p:nvPr/>
          </p:nvSpPr>
          <p:spPr>
            <a:xfrm>
              <a:off x="312840" y="1272600"/>
              <a:ext cx="3971880" cy="8539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EN 12186</a:t>
              </a:r>
              <a:r>
                <a:rPr b="1" lang="ru-RU" sz="1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истемы газоснабжения. Станции, регулирующие давление газа для его передачи и распределения. Функциональные требования</a:t>
              </a: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9" name="AutoShape 18"/>
            <p:cNvSpPr/>
            <p:nvPr/>
          </p:nvSpPr>
          <p:spPr>
            <a:xfrm>
              <a:off x="5148360" y="1272600"/>
              <a:ext cx="3806640" cy="8539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EN 12279</a:t>
              </a:r>
              <a:r>
                <a:rPr b="1" lang="ru-RU" sz="16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истемы газоснабжения. Установки регулирования давления газа на линиях обслуживания. Функциональные требования</a:t>
              </a: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cxnSp>
        <p:nvCxnSpPr>
          <p:cNvPr id="480" name="AutoShape 19"/>
          <p:cNvCxnSpPr>
            <a:stCxn id="478" idx="3"/>
            <a:endCxn id="479" idx="1"/>
          </p:cNvCxnSpPr>
          <p:nvPr/>
        </p:nvCxnSpPr>
        <p:spPr>
          <a:xfrm>
            <a:off x="4284360" y="1699920"/>
            <a:ext cx="864360" cy="1080"/>
          </a:xfrm>
          <a:prstGeom prst="straightConnector1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81" name="Line 22"/>
          <p:cNvSpPr/>
          <p:nvPr/>
        </p:nvSpPr>
        <p:spPr>
          <a:xfrm>
            <a:off x="4211640" y="4219560"/>
            <a:ext cx="0" cy="29520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2" name="Line 22"/>
          <p:cNvSpPr/>
          <p:nvPr/>
        </p:nvSpPr>
        <p:spPr>
          <a:xfrm flipH="1">
            <a:off x="2371320" y="3324240"/>
            <a:ext cx="623880" cy="144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3" name="Line 22"/>
          <p:cNvSpPr/>
          <p:nvPr/>
        </p:nvSpPr>
        <p:spPr>
          <a:xfrm>
            <a:off x="6143760" y="3305160"/>
            <a:ext cx="614160" cy="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4" name="Line 22"/>
          <p:cNvSpPr/>
          <p:nvPr/>
        </p:nvSpPr>
        <p:spPr>
          <a:xfrm>
            <a:off x="1366920" y="3967200"/>
            <a:ext cx="6120" cy="5554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5" name="Line 2"/>
          <p:cNvSpPr/>
          <p:nvPr/>
        </p:nvSpPr>
        <p:spPr>
          <a:xfrm>
            <a:off x="1614600" y="3855960"/>
            <a:ext cx="14040" cy="17128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6" name="AutoShape 14"/>
          <p:cNvSpPr/>
          <p:nvPr/>
        </p:nvSpPr>
        <p:spPr>
          <a:xfrm>
            <a:off x="539640" y="4512960"/>
            <a:ext cx="8217000" cy="756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494e4"/>
                </a:solidFill>
                <a:latin typeface="Arial"/>
              </a:rPr>
              <a:t>Проект ГОСТ Р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стемы газораспределительные. Сети газораспределения природного газа. Общие требования к эксплуатации. Эксплуатационная документация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7" name="AutoShape 12"/>
          <p:cNvSpPr/>
          <p:nvPr/>
        </p:nvSpPr>
        <p:spPr>
          <a:xfrm>
            <a:off x="324000" y="2679840"/>
            <a:ext cx="2065320" cy="12484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проект ГОСТ Р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Системы газораспределительные. Системы управления сетями газораспределения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2251080" y="0"/>
            <a:ext cx="6723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земный ПРГ. г. Чебоксары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650880" y="1251000"/>
            <a:ext cx="3549600" cy="28162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490" name="Picture 3" descr=""/>
          <p:cNvPicPr/>
          <p:nvPr/>
        </p:nvPicPr>
        <p:blipFill>
          <a:blip r:embed="rId2"/>
          <a:srcRect l="0" t="11036" r="9588" b="0"/>
          <a:stretch/>
        </p:blipFill>
        <p:spPr>
          <a:xfrm>
            <a:off x="219240" y="3705120"/>
            <a:ext cx="3147840" cy="21146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491" name="Скругленный прямоугольник 12"/>
          <p:cNvSpPr/>
          <p:nvPr/>
        </p:nvSpPr>
        <p:spPr>
          <a:xfrm>
            <a:off x="223920" y="5905440"/>
            <a:ext cx="3135240" cy="30492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93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Arial"/>
              </a:rPr>
              <a:t>ШРП № 34 г. Чебоксары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92" name="Picture 6" descr="ППРГ 2"/>
          <p:cNvPicPr/>
          <p:nvPr/>
        </p:nvPicPr>
        <p:blipFill>
          <a:blip r:embed="rId3"/>
          <a:srcRect l="8407" t="0" r="7374" b="0"/>
          <a:stretch/>
        </p:blipFill>
        <p:spPr>
          <a:xfrm>
            <a:off x="4419720" y="1219320"/>
            <a:ext cx="4600440" cy="28954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493" name="Picture 7" descr="IMAG0281"/>
          <p:cNvPicPr/>
          <p:nvPr/>
        </p:nvPicPr>
        <p:blipFill>
          <a:blip r:embed="rId4"/>
          <a:stretch/>
        </p:blipFill>
        <p:spPr>
          <a:xfrm>
            <a:off x="3476520" y="3714840"/>
            <a:ext cx="3324240" cy="25146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494" name="Picture 8" descr="ППРГ 1"/>
          <p:cNvPicPr/>
          <p:nvPr/>
        </p:nvPicPr>
        <p:blipFill>
          <a:blip r:embed="rId5"/>
          <a:stretch/>
        </p:blipFill>
        <p:spPr>
          <a:xfrm>
            <a:off x="6908760" y="3733920"/>
            <a:ext cx="2102040" cy="25430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495" name="Скругленный прямоугольник 12"/>
          <p:cNvSpPr/>
          <p:nvPr/>
        </p:nvSpPr>
        <p:spPr>
          <a:xfrm>
            <a:off x="219240" y="1376280"/>
            <a:ext cx="2265120" cy="408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Arial"/>
              </a:rPr>
              <a:t>Июль, 2011 г.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6" name="Скругленный прямоугольник 12"/>
          <p:cNvSpPr/>
          <p:nvPr/>
        </p:nvSpPr>
        <p:spPr>
          <a:xfrm>
            <a:off x="7042320" y="1376280"/>
            <a:ext cx="1890720" cy="408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Arial"/>
              </a:rPr>
              <a:t>Июнь, 2012 г.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7" name="Прямоугольник 10"/>
          <p:cNvSpPr/>
          <p:nvPr/>
        </p:nvSpPr>
        <p:spPr>
          <a:xfrm>
            <a:off x="2076480" y="6372360"/>
            <a:ext cx="681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седание ТК 23 Санкт-Петербург,  12 сентября 2012 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2"/>
          <p:cNvSpPr/>
          <p:nvPr/>
        </p:nvSpPr>
        <p:spPr>
          <a:xfrm>
            <a:off x="2144880" y="6381720"/>
            <a:ext cx="6769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седание ТК 23 Санкт-Петербург,  12 сентября 2012.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9" name="Rectangle 11"/>
          <p:cNvSpPr/>
          <p:nvPr/>
        </p:nvSpPr>
        <p:spPr>
          <a:xfrm>
            <a:off x="136440" y="6381720"/>
            <a:ext cx="148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33F3-A563-4F58-9E2A-298722EA32D7}" type="slidenum">
              <a:rPr b="1" lang="ru-RU" sz="2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0" name="Line 10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1" name="Line 11"/>
          <p:cNvSpPr/>
          <p:nvPr/>
        </p:nvSpPr>
        <p:spPr>
          <a:xfrm>
            <a:off x="0" y="108252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2" name="Text Box 13"/>
          <p:cNvSpPr/>
          <p:nvPr/>
        </p:nvSpPr>
        <p:spPr>
          <a:xfrm>
            <a:off x="1924200" y="1106640"/>
            <a:ext cx="721980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3" name="AutoShape 9"/>
          <p:cNvSpPr/>
          <p:nvPr/>
        </p:nvSpPr>
        <p:spPr>
          <a:xfrm>
            <a:off x="142920" y="1464840"/>
            <a:ext cx="1995480" cy="1710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N 12</a:t>
            </a: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007-1:20</a:t>
            </a:r>
            <a:r>
              <a:rPr b="1" lang="ru-RU" sz="1400" spc="-1" strike="noStrike">
                <a:solidFill>
                  <a:srgbClr val="00b0f0"/>
                </a:solidFill>
                <a:latin typeface="Arial"/>
              </a:rPr>
              <a:t>00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истемы газоснабжения. Трубопроводы, рассчитанные на максимальное рабочее давление до и включительно 16 бар. Часть 1: Общие функциональные рекомендации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4" name="AutoShape 10"/>
          <p:cNvSpPr/>
          <p:nvPr/>
        </p:nvSpPr>
        <p:spPr>
          <a:xfrm>
            <a:off x="176040" y="4653000"/>
            <a:ext cx="1870200" cy="1052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Проект ГОСТ Р 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истемы газораспределительные. Требования к сетям газораспределения. 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асть 0. Общие положения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2406600" y="1465200"/>
            <a:ext cx="2011320" cy="1710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N 12</a:t>
            </a: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007-2:20</a:t>
            </a:r>
            <a:r>
              <a:rPr b="1" lang="ru-RU" sz="1400" spc="-1" strike="noStrike">
                <a:solidFill>
                  <a:srgbClr val="00b0f0"/>
                </a:solidFill>
                <a:latin typeface="Arial"/>
              </a:rPr>
              <a:t>00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истемы газоснабжения. Трубопроводы, рассчитанные на максимальное рабочее давление до и включительно 16 бар. Часть 2: Общие функциональные рекомендации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6" name="AutoShape 12"/>
          <p:cNvSpPr/>
          <p:nvPr/>
        </p:nvSpPr>
        <p:spPr>
          <a:xfrm>
            <a:off x="2525760" y="4480200"/>
            <a:ext cx="1757160" cy="13816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Проект ГОСТ Р 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истемы газораспределительные. Требования к сетям газораспределения. 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асть 1. Полиэтиленовые газопроводы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7" name="AutoShape 13"/>
          <p:cNvSpPr/>
          <p:nvPr/>
        </p:nvSpPr>
        <p:spPr>
          <a:xfrm>
            <a:off x="4695840" y="1466280"/>
            <a:ext cx="2019240" cy="1710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N 12</a:t>
            </a: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007-3:2000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истемы газоснабжения. Трубопроводы, рассчитанные на максимальное рабочее давление до и включительно 16 бар. Часть 3: Специальные функциональные рекомендации для стали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8" name="AutoShape 14"/>
          <p:cNvSpPr/>
          <p:nvPr/>
        </p:nvSpPr>
        <p:spPr>
          <a:xfrm>
            <a:off x="4819680" y="4571280"/>
            <a:ext cx="1757160" cy="12171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Проект ГОСТ Р 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истемы газораспределительные. Требования к сетям газораспределения. 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асть 2. Стальные газопроводы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9" name="AutoShape 15"/>
          <p:cNvSpPr/>
          <p:nvPr/>
        </p:nvSpPr>
        <p:spPr>
          <a:xfrm>
            <a:off x="6940440" y="1394280"/>
            <a:ext cx="2043360" cy="18745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N 12</a:t>
            </a: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007-4:20</a:t>
            </a:r>
            <a:r>
              <a:rPr b="1" lang="ru-RU" sz="1400" spc="-1" strike="noStrike">
                <a:solidFill>
                  <a:srgbClr val="00b0f0"/>
                </a:solidFill>
                <a:latin typeface="Arial"/>
              </a:rPr>
              <a:t>00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истемы газоснабжения. Трубопроводы, рассчитанные на максимальное рабочее давление до и включительно 16 бар. Часть 4: Специальные функциональные рекомендации по реконструкции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0" name="AutoShape 16"/>
          <p:cNvSpPr/>
          <p:nvPr/>
        </p:nvSpPr>
        <p:spPr>
          <a:xfrm>
            <a:off x="7064280" y="4649760"/>
            <a:ext cx="1762200" cy="1052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Проект ГОСТ Р 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истемы газораспределительные. Требования к сетям газораспределения. 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асть 3. Реконструкция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cxnSp>
        <p:nvCxnSpPr>
          <p:cNvPr id="511" name="AutoShape 17"/>
          <p:cNvCxnSpPr>
            <a:stCxn id="503" idx="3"/>
            <a:endCxn id="505" idx="1"/>
          </p:cNvCxnSpPr>
          <p:nvPr/>
        </p:nvCxnSpPr>
        <p:spPr>
          <a:xfrm>
            <a:off x="2138040" y="2320560"/>
            <a:ext cx="268920" cy="108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cxnSp>
        <p:nvCxnSpPr>
          <p:cNvPr id="512" name="AutoShape 18"/>
          <p:cNvCxnSpPr>
            <a:stCxn id="505" idx="3"/>
            <a:endCxn id="507" idx="1"/>
          </p:cNvCxnSpPr>
          <p:nvPr/>
        </p:nvCxnSpPr>
        <p:spPr>
          <a:xfrm>
            <a:off x="4417920" y="2320920"/>
            <a:ext cx="278280" cy="216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cxnSp>
        <p:nvCxnSpPr>
          <p:cNvPr id="513" name="AutoShape 19"/>
          <p:cNvCxnSpPr>
            <a:stCxn id="507" idx="3"/>
            <a:endCxn id="509" idx="1"/>
          </p:cNvCxnSpPr>
          <p:nvPr/>
        </p:nvCxnSpPr>
        <p:spPr>
          <a:xfrm>
            <a:off x="6715080" y="2322000"/>
            <a:ext cx="226080" cy="1044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cxnSp>
        <p:nvCxnSpPr>
          <p:cNvPr id="514" name="AutoShape 20"/>
          <p:cNvCxnSpPr>
            <a:stCxn id="504" idx="3"/>
            <a:endCxn id="506" idx="1"/>
          </p:cNvCxnSpPr>
          <p:nvPr/>
        </p:nvCxnSpPr>
        <p:spPr>
          <a:xfrm flipV="1">
            <a:off x="2046240" y="5169600"/>
            <a:ext cx="480240" cy="1044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cxnSp>
        <p:nvCxnSpPr>
          <p:cNvPr id="515" name="AutoShape 21"/>
          <p:cNvCxnSpPr>
            <a:stCxn id="506" idx="3"/>
            <a:endCxn id="508" idx="1"/>
          </p:cNvCxnSpPr>
          <p:nvPr/>
        </p:nvCxnSpPr>
        <p:spPr>
          <a:xfrm>
            <a:off x="4282560" y="5169960"/>
            <a:ext cx="537480" cy="1044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cxnSp>
        <p:nvCxnSpPr>
          <p:cNvPr id="516" name="AutoShape 22"/>
          <p:cNvCxnSpPr>
            <a:stCxn id="508" idx="3"/>
            <a:endCxn id="510" idx="1"/>
          </p:cNvCxnSpPr>
          <p:nvPr/>
        </p:nvCxnSpPr>
        <p:spPr>
          <a:xfrm flipV="1">
            <a:off x="6576840" y="5176080"/>
            <a:ext cx="488160" cy="396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cxnSp>
        <p:nvCxnSpPr>
          <p:cNvPr id="517" name="AutoShape 23"/>
          <p:cNvCxnSpPr>
            <a:stCxn id="504" idx="0"/>
          </p:cNvCxnSpPr>
          <p:nvPr/>
        </p:nvCxnSpPr>
        <p:spPr>
          <a:xfrm flipV="1">
            <a:off x="1110960" y="3174120"/>
            <a:ext cx="6840" cy="1474200"/>
          </a:xfrm>
          <a:prstGeom prst="straightConnector1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</p:cxnSp>
      <p:cxnSp>
        <p:nvCxnSpPr>
          <p:cNvPr id="518" name="AutoShape 24"/>
          <p:cNvCxnSpPr>
            <a:stCxn id="505" idx="2"/>
            <a:endCxn id="506" idx="0"/>
          </p:cNvCxnSpPr>
          <p:nvPr/>
        </p:nvCxnSpPr>
        <p:spPr>
          <a:xfrm flipH="1">
            <a:off x="3404880" y="3096720"/>
            <a:ext cx="8640" cy="146124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519" name="AutoShape 25"/>
          <p:cNvCxnSpPr>
            <a:stCxn id="507" idx="2"/>
            <a:endCxn id="508" idx="0"/>
          </p:cNvCxnSpPr>
          <p:nvPr/>
        </p:nvCxnSpPr>
        <p:spPr>
          <a:xfrm flipH="1">
            <a:off x="5698800" y="3181320"/>
            <a:ext cx="7200" cy="138672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520" name="AutoShape 26"/>
          <p:cNvCxnSpPr>
            <a:stCxn id="509" idx="2"/>
            <a:endCxn id="510" idx="0"/>
          </p:cNvCxnSpPr>
          <p:nvPr/>
        </p:nvCxnSpPr>
        <p:spPr>
          <a:xfrm flipH="1">
            <a:off x="7945200" y="3190680"/>
            <a:ext cx="18000" cy="145476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Line 2"/>
          <p:cNvSpPr/>
          <p:nvPr/>
        </p:nvSpPr>
        <p:spPr>
          <a:xfrm flipH="1">
            <a:off x="3201480" y="2847960"/>
            <a:ext cx="16200" cy="2657520"/>
          </a:xfrm>
          <a:prstGeom prst="line">
            <a:avLst/>
          </a:prstGeom>
          <a:ln w="381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2" name="Line 3"/>
          <p:cNvSpPr/>
          <p:nvPr/>
        </p:nvSpPr>
        <p:spPr>
          <a:xfrm>
            <a:off x="587520" y="2722680"/>
            <a:ext cx="12600" cy="2768400"/>
          </a:xfrm>
          <a:prstGeom prst="line">
            <a:avLst/>
          </a:prstGeom>
          <a:ln w="381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" name="Line 4"/>
          <p:cNvSpPr/>
          <p:nvPr/>
        </p:nvSpPr>
        <p:spPr>
          <a:xfrm flipH="1">
            <a:off x="5908680" y="2800440"/>
            <a:ext cx="1440" cy="2700360"/>
          </a:xfrm>
          <a:prstGeom prst="line">
            <a:avLst/>
          </a:prstGeom>
          <a:ln w="381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" name="Line 5"/>
          <p:cNvSpPr/>
          <p:nvPr/>
        </p:nvSpPr>
        <p:spPr>
          <a:xfrm>
            <a:off x="8613720" y="2717640"/>
            <a:ext cx="3240" cy="2795760"/>
          </a:xfrm>
          <a:prstGeom prst="line">
            <a:avLst/>
          </a:prstGeom>
          <a:ln w="381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5" name="Line 6"/>
          <p:cNvSpPr/>
          <p:nvPr/>
        </p:nvSpPr>
        <p:spPr>
          <a:xfrm>
            <a:off x="4762440" y="4095720"/>
            <a:ext cx="0" cy="1440000"/>
          </a:xfrm>
          <a:prstGeom prst="line">
            <a:avLst/>
          </a:prstGeom>
          <a:ln w="381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6" name="Line 7"/>
          <p:cNvSpPr/>
          <p:nvPr/>
        </p:nvSpPr>
        <p:spPr>
          <a:xfrm>
            <a:off x="4594320" y="4100400"/>
            <a:ext cx="14040" cy="547920"/>
          </a:xfrm>
          <a:prstGeom prst="line">
            <a:avLst/>
          </a:prstGeom>
          <a:ln w="381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27" name="Group 8"/>
          <p:cNvGrpSpPr/>
          <p:nvPr/>
        </p:nvGrpSpPr>
        <p:grpSpPr>
          <a:xfrm>
            <a:off x="8407440" y="2023920"/>
            <a:ext cx="0" cy="2663640"/>
            <a:chOff x="8407440" y="2023920"/>
            <a:chExt cx="0" cy="2663640"/>
          </a:xfrm>
        </p:grpSpPr>
        <p:sp>
          <p:nvSpPr>
            <p:cNvPr id="528" name="Line 9"/>
            <p:cNvSpPr/>
            <p:nvPr/>
          </p:nvSpPr>
          <p:spPr>
            <a:xfrm>
              <a:off x="8407440" y="2023920"/>
              <a:ext cx="0" cy="266364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9" name="Line 10"/>
            <p:cNvSpPr/>
            <p:nvPr/>
          </p:nvSpPr>
          <p:spPr>
            <a:xfrm>
              <a:off x="8407440" y="2023920"/>
              <a:ext cx="0" cy="177624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30" name="Line 11"/>
          <p:cNvSpPr/>
          <p:nvPr/>
        </p:nvSpPr>
        <p:spPr>
          <a:xfrm flipH="1">
            <a:off x="6129000" y="2852640"/>
            <a:ext cx="3240" cy="1805040"/>
          </a:xfrm>
          <a:prstGeom prst="line">
            <a:avLst/>
          </a:prstGeom>
          <a:ln w="381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31" name="Group 13"/>
          <p:cNvGrpSpPr/>
          <p:nvPr/>
        </p:nvGrpSpPr>
        <p:grpSpPr>
          <a:xfrm>
            <a:off x="3132000" y="2057400"/>
            <a:ext cx="0" cy="2592360"/>
            <a:chOff x="3132000" y="2057400"/>
            <a:chExt cx="0" cy="2592360"/>
          </a:xfrm>
        </p:grpSpPr>
        <p:sp>
          <p:nvSpPr>
            <p:cNvPr id="532" name="Line 14"/>
            <p:cNvSpPr/>
            <p:nvPr/>
          </p:nvSpPr>
          <p:spPr>
            <a:xfrm>
              <a:off x="3132000" y="2057400"/>
              <a:ext cx="0" cy="259236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3" name="Line 15"/>
            <p:cNvSpPr/>
            <p:nvPr/>
          </p:nvSpPr>
          <p:spPr>
            <a:xfrm>
              <a:off x="3132000" y="2057400"/>
              <a:ext cx="0" cy="172872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534" name="Group 16"/>
          <p:cNvGrpSpPr/>
          <p:nvPr/>
        </p:nvGrpSpPr>
        <p:grpSpPr>
          <a:xfrm>
            <a:off x="2195280" y="2852640"/>
            <a:ext cx="0" cy="2663640"/>
            <a:chOff x="2195280" y="2852640"/>
            <a:chExt cx="0" cy="2663640"/>
          </a:xfrm>
        </p:grpSpPr>
        <p:sp>
          <p:nvSpPr>
            <p:cNvPr id="535" name="Line 17"/>
            <p:cNvSpPr/>
            <p:nvPr/>
          </p:nvSpPr>
          <p:spPr>
            <a:xfrm>
              <a:off x="2195280" y="2852640"/>
              <a:ext cx="0" cy="266364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6" name="Line 18"/>
            <p:cNvSpPr/>
            <p:nvPr/>
          </p:nvSpPr>
          <p:spPr>
            <a:xfrm>
              <a:off x="2195280" y="2852640"/>
              <a:ext cx="0" cy="177624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37" name="Rectangle 12"/>
          <p:cNvSpPr/>
          <p:nvPr/>
        </p:nvSpPr>
        <p:spPr>
          <a:xfrm>
            <a:off x="2144880" y="6381720"/>
            <a:ext cx="6769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седание ТК 23 Санкт-Петербург,  12 сентября 2012.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8" name="Rectangle 11"/>
          <p:cNvSpPr/>
          <p:nvPr/>
        </p:nvSpPr>
        <p:spPr>
          <a:xfrm>
            <a:off x="108000" y="6381720"/>
            <a:ext cx="148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77A9-993F-4966-9EB3-D6EA2F3D4880}" type="slidenum">
              <a:rPr b="1" lang="ru-RU" sz="2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9" name="Line 10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0" name="Line 11"/>
          <p:cNvSpPr/>
          <p:nvPr/>
        </p:nvSpPr>
        <p:spPr>
          <a:xfrm>
            <a:off x="0" y="108252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2158920" y="201600"/>
            <a:ext cx="698508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2" name="AutoShape 24"/>
          <p:cNvSpPr/>
          <p:nvPr/>
        </p:nvSpPr>
        <p:spPr>
          <a:xfrm>
            <a:off x="395280" y="5535720"/>
            <a:ext cx="8424720" cy="504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СП 62.13330.2011 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Газораспределительные системы. Актуализированная редакция СНиП 42-01-2002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3" name="AutoShape 25"/>
          <p:cNvSpPr/>
          <p:nvPr/>
        </p:nvSpPr>
        <p:spPr>
          <a:xfrm>
            <a:off x="395280" y="4657680"/>
            <a:ext cx="8424720" cy="559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dc4c9"/>
                </a:solidFill>
                <a:latin typeface="Arial"/>
              </a:rPr>
              <a:t>Проект ГОСТ Р</a:t>
            </a: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истемы газораспределительные. Сети газораспределения природного газа. Общие требования к эксплуатации. Эксплуатационная документация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4" name="AutoShape 26"/>
          <p:cNvSpPr/>
          <p:nvPr/>
        </p:nvSpPr>
        <p:spPr>
          <a:xfrm>
            <a:off x="6372360" y="3122280"/>
            <a:ext cx="1908000" cy="13816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Проект ГОСТ Р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истемы газораспределительные. Покрытия из экструдированного полиэтилена для стальных труб. Общие технические требования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5" name="AutoShape 27"/>
          <p:cNvSpPr/>
          <p:nvPr/>
        </p:nvSpPr>
        <p:spPr>
          <a:xfrm>
            <a:off x="938160" y="2987280"/>
            <a:ext cx="1825560" cy="13816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ГОСТ Р 54960-201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истемы газораспределительные. Пункты газорегуляторные блочные. Пункты редуцирования газа шкафные. Общие технические требования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6" name="AutoShape 28"/>
          <p:cNvSpPr/>
          <p:nvPr/>
        </p:nvSpPr>
        <p:spPr>
          <a:xfrm>
            <a:off x="3376440" y="3288960"/>
            <a:ext cx="2374920" cy="8881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Проект ГОСТ Р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истемы газораспределительные. Пункты редуцирования газа. Функциональные требования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7" name="Line 49"/>
          <p:cNvSpPr/>
          <p:nvPr/>
        </p:nvSpPr>
        <p:spPr>
          <a:xfrm>
            <a:off x="1528920" y="2766960"/>
            <a:ext cx="6120" cy="258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8" name="Line 50"/>
          <p:cNvSpPr/>
          <p:nvPr/>
        </p:nvSpPr>
        <p:spPr>
          <a:xfrm>
            <a:off x="2416320" y="2746440"/>
            <a:ext cx="1022040" cy="654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9" name="Line 51"/>
          <p:cNvSpPr/>
          <p:nvPr/>
        </p:nvSpPr>
        <p:spPr>
          <a:xfrm flipH="1">
            <a:off x="5724360" y="2781360"/>
            <a:ext cx="1224000" cy="647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0" name="Line 52"/>
          <p:cNvSpPr/>
          <p:nvPr/>
        </p:nvSpPr>
        <p:spPr>
          <a:xfrm>
            <a:off x="6515280" y="2781360"/>
            <a:ext cx="649080" cy="36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1" name="Line 3"/>
          <p:cNvSpPr/>
          <p:nvPr/>
        </p:nvSpPr>
        <p:spPr>
          <a:xfrm>
            <a:off x="785880" y="2790720"/>
            <a:ext cx="12600" cy="1920960"/>
          </a:xfrm>
          <a:prstGeom prst="line">
            <a:avLst/>
          </a:prstGeom>
          <a:ln w="381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2" name="Line 49"/>
          <p:cNvSpPr/>
          <p:nvPr/>
        </p:nvSpPr>
        <p:spPr>
          <a:xfrm flipH="1">
            <a:off x="7883280" y="1467000"/>
            <a:ext cx="3240" cy="2743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3" name="Line 2"/>
          <p:cNvSpPr/>
          <p:nvPr/>
        </p:nvSpPr>
        <p:spPr>
          <a:xfrm flipH="1">
            <a:off x="3006360" y="2843280"/>
            <a:ext cx="11160" cy="1795320"/>
          </a:xfrm>
          <a:prstGeom prst="line">
            <a:avLst/>
          </a:prstGeom>
          <a:ln w="381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4" name="Line 5"/>
          <p:cNvSpPr/>
          <p:nvPr/>
        </p:nvSpPr>
        <p:spPr>
          <a:xfrm>
            <a:off x="8397720" y="2732040"/>
            <a:ext cx="0" cy="1924200"/>
          </a:xfrm>
          <a:prstGeom prst="line">
            <a:avLst/>
          </a:prstGeom>
          <a:ln w="381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5" name="Rectangle 54"/>
          <p:cNvSpPr/>
          <p:nvPr/>
        </p:nvSpPr>
        <p:spPr>
          <a:xfrm>
            <a:off x="3817800" y="595440"/>
            <a:ext cx="841680" cy="347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6" name="Line 49"/>
          <p:cNvSpPr/>
          <p:nvPr/>
        </p:nvSpPr>
        <p:spPr>
          <a:xfrm>
            <a:off x="5700600" y="1471680"/>
            <a:ext cx="9720" cy="201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7" name="Line 49"/>
          <p:cNvSpPr/>
          <p:nvPr/>
        </p:nvSpPr>
        <p:spPr>
          <a:xfrm flipH="1">
            <a:off x="3576240" y="1457280"/>
            <a:ext cx="3240" cy="201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8" name="Line 49"/>
          <p:cNvSpPr/>
          <p:nvPr/>
        </p:nvSpPr>
        <p:spPr>
          <a:xfrm>
            <a:off x="1490760" y="1457280"/>
            <a:ext cx="11160" cy="217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9" name="AutoShape 30"/>
          <p:cNvSpPr/>
          <p:nvPr/>
        </p:nvSpPr>
        <p:spPr>
          <a:xfrm>
            <a:off x="566640" y="1185480"/>
            <a:ext cx="1903680" cy="2300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N 12</a:t>
            </a: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007-1:20</a:t>
            </a:r>
            <a:r>
              <a:rPr b="1" lang="ru-RU" sz="1400" spc="-1" strike="noStrike">
                <a:solidFill>
                  <a:srgbClr val="00b0f0"/>
                </a:solidFill>
                <a:latin typeface="Arial"/>
              </a:rPr>
              <a:t>00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0" name="AutoShape 31"/>
          <p:cNvSpPr/>
          <p:nvPr/>
        </p:nvSpPr>
        <p:spPr>
          <a:xfrm>
            <a:off x="544680" y="1710720"/>
            <a:ext cx="1938240" cy="1052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Проект ГОСТ Р 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истемы газораспределительные. Требования к сетям газораспределения. 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асть 0. Общие положения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1" name="AutoShape 32"/>
          <p:cNvSpPr/>
          <p:nvPr/>
        </p:nvSpPr>
        <p:spPr>
          <a:xfrm>
            <a:off x="2624040" y="1185480"/>
            <a:ext cx="1932120" cy="2300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N 12</a:t>
            </a: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007-2:20</a:t>
            </a:r>
            <a:r>
              <a:rPr b="1" lang="ru-RU" sz="1400" spc="-1" strike="noStrike">
                <a:solidFill>
                  <a:srgbClr val="00b0f0"/>
                </a:solidFill>
                <a:latin typeface="Arial"/>
              </a:rPr>
              <a:t>00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2" name="AutoShape 33"/>
          <p:cNvSpPr/>
          <p:nvPr/>
        </p:nvSpPr>
        <p:spPr>
          <a:xfrm>
            <a:off x="2695680" y="1615320"/>
            <a:ext cx="1800000" cy="12171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Проект ГОСТ Р 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истемы газораспределительные. Требования к сетям газораспределения. 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асть 1. Полиэтиленовые газопроводы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3" name="AutoShape 34"/>
          <p:cNvSpPr/>
          <p:nvPr/>
        </p:nvSpPr>
        <p:spPr>
          <a:xfrm>
            <a:off x="4719600" y="1185480"/>
            <a:ext cx="1930320" cy="2300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N 12</a:t>
            </a: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007-3:2000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4" name="AutoShape 35"/>
          <p:cNvSpPr/>
          <p:nvPr/>
        </p:nvSpPr>
        <p:spPr>
          <a:xfrm>
            <a:off x="4791240" y="1615320"/>
            <a:ext cx="1800000" cy="12171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Проект ГОСТ Р 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истемы газораспределительные. Требования к сетям газораспределения. 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асть 2. Стальные газопроводы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5" name="AutoShape 36"/>
          <p:cNvSpPr/>
          <p:nvPr/>
        </p:nvSpPr>
        <p:spPr>
          <a:xfrm>
            <a:off x="6807240" y="1186920"/>
            <a:ext cx="1950840" cy="2300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N 12</a:t>
            </a: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007-4:20</a:t>
            </a:r>
            <a:r>
              <a:rPr b="1" lang="ru-RU" sz="1400" spc="-1" strike="noStrike">
                <a:solidFill>
                  <a:srgbClr val="00b0f0"/>
                </a:solidFill>
                <a:latin typeface="Arial"/>
              </a:rPr>
              <a:t>00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6" name="AutoShape 37"/>
          <p:cNvSpPr/>
          <p:nvPr/>
        </p:nvSpPr>
        <p:spPr>
          <a:xfrm>
            <a:off x="6878520" y="1697040"/>
            <a:ext cx="1800360" cy="1052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</a:rPr>
              <a:t>Проект ГОСТ Р 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истемы газораспределительные. Требования к сетям газораспределения. 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асть 3. Реконструкция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cxnSp>
        <p:nvCxnSpPr>
          <p:cNvPr id="567" name="AutoShape 38"/>
          <p:cNvCxnSpPr>
            <a:stCxn id="559" idx="3"/>
            <a:endCxn id="561" idx="1"/>
          </p:cNvCxnSpPr>
          <p:nvPr/>
        </p:nvCxnSpPr>
        <p:spPr>
          <a:xfrm>
            <a:off x="2469960" y="1301400"/>
            <a:ext cx="154440" cy="108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cxnSp>
        <p:nvCxnSpPr>
          <p:cNvPr id="568" name="AutoShape 39"/>
          <p:cNvCxnSpPr>
            <a:stCxn id="561" idx="3"/>
            <a:endCxn id="563" idx="1"/>
          </p:cNvCxnSpPr>
          <p:nvPr/>
        </p:nvCxnSpPr>
        <p:spPr>
          <a:xfrm>
            <a:off x="4556160" y="1301400"/>
            <a:ext cx="164160" cy="108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cxnSp>
        <p:nvCxnSpPr>
          <p:cNvPr id="569" name="AutoShape 40"/>
          <p:cNvCxnSpPr>
            <a:stCxn id="563" idx="3"/>
            <a:endCxn id="565" idx="1"/>
          </p:cNvCxnSpPr>
          <p:nvPr/>
        </p:nvCxnSpPr>
        <p:spPr>
          <a:xfrm>
            <a:off x="6649560" y="1301760"/>
            <a:ext cx="158040" cy="216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cxnSp>
        <p:nvCxnSpPr>
          <p:cNvPr id="570" name="AutoShape 41"/>
          <p:cNvCxnSpPr>
            <a:stCxn id="560" idx="3"/>
            <a:endCxn id="562" idx="1"/>
          </p:cNvCxnSpPr>
          <p:nvPr/>
        </p:nvCxnSpPr>
        <p:spPr>
          <a:xfrm flipV="1">
            <a:off x="2486160" y="2223720"/>
            <a:ext cx="210240" cy="1512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cxnSp>
        <p:nvCxnSpPr>
          <p:cNvPr id="571" name="AutoShape 42"/>
          <p:cNvCxnSpPr>
            <a:stCxn id="562" idx="3"/>
            <a:endCxn id="564" idx="1"/>
          </p:cNvCxnSpPr>
          <p:nvPr/>
        </p:nvCxnSpPr>
        <p:spPr>
          <a:xfrm>
            <a:off x="4495320" y="2223720"/>
            <a:ext cx="296280" cy="108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cxnSp>
        <p:nvCxnSpPr>
          <p:cNvPr id="572" name="AutoShape 43"/>
          <p:cNvCxnSpPr>
            <a:stCxn id="564" idx="3"/>
            <a:endCxn id="566" idx="1"/>
          </p:cNvCxnSpPr>
          <p:nvPr/>
        </p:nvCxnSpPr>
        <p:spPr>
          <a:xfrm>
            <a:off x="6591240" y="2223720"/>
            <a:ext cx="288000" cy="108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58560" y="132840"/>
            <a:ext cx="698508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ект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ГОСТ Р «Системы газораспределительные.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ребования к сетям газораспределения.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асть 0. Общие положения»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51920" y="1257480"/>
            <a:ext cx="8991720" cy="499104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 Narrow"/>
              </a:rPr>
              <a:t>Разработан с учетом характерных особенностей территориального планирования по Градостроительному кодексу и требований проектов нормативных документов, находящихся в стадии утверждения.</a:t>
            </a:r>
            <a:endParaRPr b="1" lang="en-US" sz="14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 Narrow"/>
              </a:rPr>
              <a:t>Устанавливает требования: </a:t>
            </a:r>
            <a:endParaRPr b="1" lang="en-US" sz="14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 Narrow"/>
              </a:rPr>
              <a:t>к выбору материалов, запорной арматуры и других технологических устройств; </a:t>
            </a:r>
            <a:endParaRPr b="1" lang="en-US" sz="14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 Narrow"/>
              </a:rPr>
              <a:t>к транспортированию и хранению труб, трубопроводной арматуры, соединительных деталей, материалов, технических и технологических устройств (при строительства и эксплуатации)</a:t>
            </a:r>
            <a:endParaRPr b="1" lang="en-US" sz="14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 Narrow"/>
              </a:rPr>
              <a:t>к процессам проектирования, строительства и эксплуатации;</a:t>
            </a:r>
            <a:endParaRPr b="1" lang="en-US" sz="14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 Narrow"/>
              </a:rPr>
              <a:t>к автоматизированной системе управления технологическим процессом распределения газа</a:t>
            </a:r>
            <a:endParaRPr b="1" lang="en-US" sz="14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 Narrow"/>
              </a:rPr>
              <a:t>к пунктам учета газа</a:t>
            </a:r>
            <a:endParaRPr b="1" lang="en-US" sz="14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66"/>
                </a:solidFill>
                <a:latin typeface="Arial Narrow"/>
              </a:rPr>
              <a:t>Содержит </a:t>
            </a:r>
            <a:r>
              <a:rPr b="1" lang="ru-RU" sz="1300" spc="-1" strike="noStrike">
                <a:solidFill>
                  <a:srgbClr val="0000ff"/>
                </a:solidFill>
                <a:latin typeface="Arial Narrow"/>
              </a:rPr>
              <a:t>12</a:t>
            </a:r>
            <a:r>
              <a:rPr b="1" lang="ru-RU" sz="1300" spc="-1" strike="noStrike">
                <a:solidFill>
                  <a:srgbClr val="003366"/>
                </a:solidFill>
                <a:latin typeface="Arial Narrow"/>
              </a:rPr>
              <a:t> ссылок на СП 62.13330.2011 «Газораспределительные системы. Актуализированная редакция СНиП 42-01-2002»</a:t>
            </a:r>
            <a:endParaRPr b="1" lang="en-US" sz="13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66"/>
                </a:solidFill>
                <a:latin typeface="Arial Narrow"/>
              </a:rPr>
              <a:t>В ходе обсуждения проекта стандарта было получено </a:t>
            </a:r>
            <a:r>
              <a:rPr b="1" lang="ru-RU" sz="1300" spc="-1" strike="noStrike">
                <a:solidFill>
                  <a:srgbClr val="0066ff"/>
                </a:solidFill>
                <a:latin typeface="Arial Narrow"/>
              </a:rPr>
              <a:t>195</a:t>
            </a:r>
            <a:r>
              <a:rPr b="1" lang="ru-RU" sz="1300" spc="-1" strike="noStrike">
                <a:solidFill>
                  <a:srgbClr val="003366"/>
                </a:solidFill>
                <a:latin typeface="Arial Narrow"/>
              </a:rPr>
              <a:t> замечаний, из них принято – </a:t>
            </a:r>
            <a:r>
              <a:rPr b="1" lang="ru-RU" sz="1300" spc="-1" strike="noStrike">
                <a:solidFill>
                  <a:srgbClr val="0066ff"/>
                </a:solidFill>
                <a:latin typeface="Arial Narrow"/>
              </a:rPr>
              <a:t>115</a:t>
            </a:r>
            <a:r>
              <a:rPr b="1" lang="ru-RU" sz="1300" spc="-1" strike="noStrike">
                <a:solidFill>
                  <a:srgbClr val="003366"/>
                </a:solidFill>
                <a:latin typeface="Arial Narrow"/>
              </a:rPr>
              <a:t> и отклонено - </a:t>
            </a:r>
            <a:r>
              <a:rPr b="1" lang="ru-RU" sz="1300" spc="-1" strike="noStrike">
                <a:solidFill>
                  <a:srgbClr val="0066ff"/>
                </a:solidFill>
                <a:latin typeface="Arial Narrow"/>
              </a:rPr>
              <a:t>80</a:t>
            </a:r>
            <a:r>
              <a:rPr b="1" lang="ru-RU" sz="1300" spc="-1" strike="noStrike">
                <a:solidFill>
                  <a:srgbClr val="003366"/>
                </a:solidFill>
                <a:latin typeface="Arial Narrow"/>
              </a:rPr>
              <a:t> замечаний.</a:t>
            </a:r>
            <a:endParaRPr b="1" lang="en-US" sz="13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 algn="just">
              <a:lnSpc>
                <a:spcPct val="80000"/>
              </a:lnSpc>
              <a:spcAft>
                <a:spcPts val="2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 algn="just">
              <a:lnSpc>
                <a:spcPct val="80000"/>
              </a:lnSpc>
              <a:spcAft>
                <a:spcPts val="2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66"/>
                </a:solidFill>
                <a:latin typeface="Arial Narrow"/>
              </a:rPr>
              <a:t>Типичные замечания, которые не были приняты:</a:t>
            </a:r>
            <a:endParaRPr b="1" lang="en-US" sz="13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just">
              <a:spcBef>
                <a:spcPts val="300"/>
              </a:spcBef>
              <a:spcAft>
                <a:spcPts val="300"/>
              </a:spcAft>
              <a:buClr>
                <a:srgbClr val="0066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 Narrow"/>
              </a:rPr>
              <a:t>включить дополнительные требования, (в том числе организационные), выходящие за рамки области применения стандарта</a:t>
            </a:r>
            <a:endParaRPr b="1" lang="en-US" sz="1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just">
              <a:spcBef>
                <a:spcPts val="300"/>
              </a:spcBef>
              <a:spcAft>
                <a:spcPts val="300"/>
              </a:spcAft>
              <a:buClr>
                <a:srgbClr val="0066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 Narrow"/>
              </a:rPr>
              <a:t>устранить противоречия с требованиями отдельных пунктов ПБ 12-529-03, СНиП 42-01-2002 и СП 42-101-2003 (противоречия связаны с актуализацией этих требований)</a:t>
            </a:r>
            <a:endParaRPr b="1" lang="en-US" sz="1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just">
              <a:spcBef>
                <a:spcPts val="300"/>
              </a:spcBef>
              <a:spcAft>
                <a:spcPts val="300"/>
              </a:spcAft>
              <a:buClr>
                <a:srgbClr val="0066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 Narrow"/>
              </a:rPr>
              <a:t>внести изменения в оформление проекта стандарта, не соответствующие ГОСТ Р 1.5-2004 </a:t>
            </a:r>
            <a:endParaRPr b="1" lang="en-US" sz="1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just">
              <a:spcBef>
                <a:spcPts val="300"/>
              </a:spcBef>
              <a:spcAft>
                <a:spcPts val="300"/>
              </a:spcAft>
              <a:buClr>
                <a:srgbClr val="0066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 Narrow"/>
              </a:rPr>
              <a:t>включить в текст стандарта понятие «нормативного срока службы» </a:t>
            </a:r>
            <a:endParaRPr b="1" lang="en-US" sz="1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just">
              <a:spcBef>
                <a:spcPts val="300"/>
              </a:spcBef>
              <a:spcAft>
                <a:spcPts val="300"/>
              </a:spcAft>
              <a:buClr>
                <a:srgbClr val="0066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 Narrow"/>
              </a:rPr>
              <a:t>привести методику определения срока службы газопровода</a:t>
            </a:r>
            <a:endParaRPr b="1" lang="en-US" sz="1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just">
              <a:spcBef>
                <a:spcPts val="300"/>
              </a:spcBef>
              <a:spcAft>
                <a:spcPts val="300"/>
              </a:spcAft>
              <a:buClr>
                <a:srgbClr val="0066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 Narrow"/>
              </a:rPr>
              <a:t>дополнить  отдельные пункты проекта стандарта требованиями, аналогичными требованиям действующих нормативных документов, в том числе в СП 62.13330.2011</a:t>
            </a:r>
            <a:endParaRPr b="1" lang="en-US" sz="1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75" name="Прямоугольник 3"/>
          <p:cNvSpPr/>
          <p:nvPr/>
        </p:nvSpPr>
        <p:spPr>
          <a:xfrm>
            <a:off x="2286000" y="6381720"/>
            <a:ext cx="66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седание ТК 23 Санкт-Петербург,  12 сентября 2012 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ек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СТ Р «Системы газораспределительные.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ребования к сетям газораспределения.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асть 1. Полиэтиленовые газопровод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42560" y="1374480"/>
            <a:ext cx="8877240" cy="45385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 Narrow"/>
              </a:rPr>
              <a:t>Систематизировал требования</a:t>
            </a:r>
            <a:r>
              <a:rPr b="1" lang="ru-RU" sz="1600" spc="-1" strike="noStrike">
                <a:solidFill>
                  <a:srgbClr val="003366"/>
                </a:solidFill>
                <a:latin typeface="Arial Narrow"/>
              </a:rPr>
              <a:t>:</a:t>
            </a:r>
            <a:endParaRPr b="1" lang="en-US" sz="1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 Narrow"/>
              </a:rPr>
              <a:t>по применению и соединению полиэтиленовых труб, соединительных деталей из ПЭ80 и ПЭ100 при различных условиях прокладки</a:t>
            </a:r>
            <a:endParaRPr b="1" lang="en-US" sz="14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 Narrow"/>
              </a:rPr>
              <a:t>по способам присоединения полиэтиленового газопровода к действующему газопроводу </a:t>
            </a:r>
            <a:endParaRPr b="1" lang="en-US" sz="14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 Narrow"/>
              </a:rPr>
              <a:t>по маркировке и привязке полиэтиленовых газопроводов с применением современных средств </a:t>
            </a:r>
            <a:endParaRPr b="1" lang="en-US" sz="14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 Narrow"/>
              </a:rPr>
              <a:t>по хранению полиэтиленовых труб и соединительных деталей</a:t>
            </a:r>
            <a:endParaRPr b="1" lang="en-US" sz="14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66"/>
                </a:solidFill>
                <a:latin typeface="Arial Narrow"/>
              </a:rPr>
              <a:t>Содержит </a:t>
            </a:r>
            <a:r>
              <a:rPr b="1" lang="ru-RU" sz="1300" spc="-1" strike="noStrike">
                <a:solidFill>
                  <a:srgbClr val="0000ff"/>
                </a:solidFill>
                <a:latin typeface="Arial Narrow"/>
              </a:rPr>
              <a:t>3</a:t>
            </a:r>
            <a:r>
              <a:rPr b="1" lang="ru-RU" sz="1300" spc="-1" strike="noStrike">
                <a:solidFill>
                  <a:srgbClr val="003366"/>
                </a:solidFill>
                <a:latin typeface="Arial Narrow"/>
              </a:rPr>
              <a:t> ссылки на СП 62.13330.2011 «Газораспределительные системы. Актуализированная редакция СНиП 42-01-2002»</a:t>
            </a:r>
            <a:endParaRPr b="1" lang="en-US" sz="13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66"/>
                </a:solidFill>
                <a:latin typeface="Arial Narrow"/>
              </a:rPr>
              <a:t>В ходе обсуждения проекта стандарта было получено </a:t>
            </a:r>
            <a:r>
              <a:rPr b="1" lang="ru-RU" sz="1300" spc="-1" strike="noStrike">
                <a:solidFill>
                  <a:srgbClr val="0000ff"/>
                </a:solidFill>
                <a:latin typeface="Arial Narrow"/>
              </a:rPr>
              <a:t>88</a:t>
            </a:r>
            <a:r>
              <a:rPr b="1" lang="ru-RU" sz="1300" spc="-1" strike="noStrike">
                <a:solidFill>
                  <a:srgbClr val="003366"/>
                </a:solidFill>
                <a:latin typeface="Arial Narrow"/>
              </a:rPr>
              <a:t> замечаний, из них принято – </a:t>
            </a:r>
            <a:r>
              <a:rPr b="1" lang="ru-RU" sz="1300" spc="-1" strike="noStrike">
                <a:solidFill>
                  <a:srgbClr val="0000ff"/>
                </a:solidFill>
                <a:latin typeface="Arial Narrow"/>
              </a:rPr>
              <a:t>54</a:t>
            </a:r>
            <a:r>
              <a:rPr b="1" lang="ru-RU" sz="1300" spc="-1" strike="noStrike">
                <a:solidFill>
                  <a:srgbClr val="003366"/>
                </a:solidFill>
                <a:latin typeface="Arial Narrow"/>
              </a:rPr>
              <a:t> и отклонено - </a:t>
            </a:r>
            <a:r>
              <a:rPr b="1" lang="ru-RU" sz="1300" spc="-1" strike="noStrike">
                <a:solidFill>
                  <a:srgbClr val="0000ff"/>
                </a:solidFill>
                <a:latin typeface="Arial Narrow"/>
              </a:rPr>
              <a:t>34</a:t>
            </a:r>
            <a:r>
              <a:rPr b="1" lang="ru-RU" sz="1300" spc="-1" strike="noStrike">
                <a:solidFill>
                  <a:srgbClr val="003366"/>
                </a:solidFill>
                <a:latin typeface="Arial Narrow"/>
              </a:rPr>
              <a:t> замечания</a:t>
            </a:r>
            <a:r>
              <a:rPr b="1" lang="ru-RU" sz="1400" spc="-1" strike="noStrike">
                <a:solidFill>
                  <a:srgbClr val="003366"/>
                </a:solidFill>
                <a:latin typeface="Arial Narrow"/>
              </a:rPr>
              <a:t>.</a:t>
            </a:r>
            <a:endParaRPr b="1" lang="en-US" sz="14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 algn="just">
              <a:lnSpc>
                <a:spcPct val="80000"/>
              </a:lnSpc>
              <a:spcAft>
                <a:spcPts val="2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66"/>
                </a:solidFill>
                <a:latin typeface="Arial Narrow"/>
              </a:rPr>
              <a:t>Типичные замечания, которые не были приняты:</a:t>
            </a:r>
            <a:endParaRPr b="1" lang="en-US" sz="13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66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 Narrow"/>
              </a:rPr>
              <a:t>Устранить противоречия с требованиями отдельных пунктов ПБ 12-529-03, СНиП 42-01-2002 и СП 42-101-2003 (противоречия связаны с актуализацией этих требований)</a:t>
            </a:r>
            <a:endParaRPr b="1" lang="en-US" sz="1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66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 Narrow"/>
              </a:rPr>
              <a:t>Включить дополнительные требования, (в том числе экономические), выходящие за рамки области применения стандарта</a:t>
            </a:r>
            <a:endParaRPr b="1" lang="en-US" sz="1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66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 Narrow"/>
              </a:rPr>
              <a:t>Внести изменения в оформление проекта стандарта не соответствующие ГОСТ Р 1.5-2004</a:t>
            </a:r>
            <a:endParaRPr b="1" lang="en-US" sz="1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66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 Narrow"/>
              </a:rPr>
              <a:t>Ввести дополнительные требования к материалам для изготовления полиэтиленовых труб и деталей</a:t>
            </a:r>
            <a:endParaRPr b="1" lang="en-US" sz="1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66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 Narrow"/>
              </a:rPr>
              <a:t>Дополнить  отдельные пункты проекта стандарта требованиями, аналогичными требованиям действующих нормативных документов, в том числе в СП 62.13330.2011</a:t>
            </a:r>
            <a:endParaRPr b="1" lang="en-US" sz="1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78" name="Прямоугольник 3"/>
          <p:cNvSpPr/>
          <p:nvPr/>
        </p:nvSpPr>
        <p:spPr>
          <a:xfrm>
            <a:off x="3457440" y="6410160"/>
            <a:ext cx="555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седание ТК 23 Санкт-Петербург,  12 сентября 2012 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90600" y="142920"/>
            <a:ext cx="681048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ект ГОСТ Р «Системы газораспределительные.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ребования к сетям газораспределения.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асть 2. Стальные газопроводы»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42920" y="1199880"/>
            <a:ext cx="8886960" cy="49813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 Narrow"/>
              </a:rPr>
              <a:t>Систематизировал требования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1" lang="en-US" sz="1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 Narrow"/>
              </a:rPr>
              <a:t>по применению стальных труб (из разных марок стали) для при различных условиях прокладки</a:t>
            </a:r>
            <a:endParaRPr b="1" lang="en-US" sz="14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 Narrow"/>
              </a:rPr>
              <a:t>по противокоррозионной защите</a:t>
            </a:r>
            <a:endParaRPr b="1" lang="en-US" sz="14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 Narrow"/>
              </a:rPr>
              <a:t>по входному контролю, а также транспортированию и хранению стальных труб</a:t>
            </a:r>
            <a:endParaRPr b="1" lang="en-US" sz="14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 Narrow"/>
              </a:rPr>
              <a:t>и рекомендации к типовым формам эксплуатационных документов, относящихся к противокоррозионной защите.</a:t>
            </a:r>
            <a:endParaRPr b="1" lang="en-US" sz="14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66"/>
                </a:solidFill>
                <a:latin typeface="Arial Narrow"/>
              </a:rPr>
              <a:t>Содержит </a:t>
            </a:r>
            <a:r>
              <a:rPr b="1" lang="ru-RU" sz="1200" spc="-1" strike="noStrike">
                <a:solidFill>
                  <a:srgbClr val="0066ff"/>
                </a:solidFill>
                <a:latin typeface="Arial Narrow"/>
              </a:rPr>
              <a:t>8</a:t>
            </a:r>
            <a:r>
              <a:rPr b="1" lang="ru-RU" sz="1300" spc="-1" strike="noStrike">
                <a:solidFill>
                  <a:srgbClr val="003366"/>
                </a:solidFill>
                <a:latin typeface="Arial Narrow"/>
              </a:rPr>
              <a:t> ссылок на СП 62.13330.2011 «Газораспределительные системы. Актуализированная редакция СНиП 42-01-2002»</a:t>
            </a:r>
            <a:endParaRPr b="1" lang="en-US" sz="13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66"/>
                </a:solidFill>
                <a:latin typeface="Arial Narrow"/>
              </a:rPr>
              <a:t>В ходе обсуждения проекта стандарта было получено </a:t>
            </a:r>
            <a:r>
              <a:rPr b="1" lang="ru-RU" sz="1200" spc="-1" strike="noStrike">
                <a:solidFill>
                  <a:srgbClr val="0066ff"/>
                </a:solidFill>
                <a:latin typeface="Arial Narrow"/>
              </a:rPr>
              <a:t>101</a:t>
            </a:r>
            <a:r>
              <a:rPr b="1" lang="ru-RU" sz="1300" spc="-1" strike="noStrike">
                <a:solidFill>
                  <a:srgbClr val="003366"/>
                </a:solidFill>
                <a:latin typeface="Arial Narrow"/>
              </a:rPr>
              <a:t> замечание, из них принято – </a:t>
            </a:r>
            <a:r>
              <a:rPr b="1" lang="ru-RU" sz="1200" spc="-1" strike="noStrike">
                <a:solidFill>
                  <a:srgbClr val="0066ff"/>
                </a:solidFill>
                <a:latin typeface="Arial Narrow"/>
              </a:rPr>
              <a:t>62</a:t>
            </a:r>
            <a:r>
              <a:rPr b="1" lang="ru-RU" sz="1300" spc="-1" strike="noStrike">
                <a:solidFill>
                  <a:srgbClr val="003366"/>
                </a:solidFill>
                <a:latin typeface="Arial Narrow"/>
              </a:rPr>
              <a:t> и отклонено - </a:t>
            </a:r>
            <a:r>
              <a:rPr b="1" lang="ru-RU" sz="1200" spc="-1" strike="noStrike">
                <a:solidFill>
                  <a:srgbClr val="0066ff"/>
                </a:solidFill>
                <a:latin typeface="Arial Narrow"/>
              </a:rPr>
              <a:t>39</a:t>
            </a:r>
            <a:r>
              <a:rPr b="1" lang="ru-RU" sz="1300" spc="-1" strike="noStrike">
                <a:solidFill>
                  <a:srgbClr val="003366"/>
                </a:solidFill>
                <a:latin typeface="Arial Narrow"/>
              </a:rPr>
              <a:t> замечания.</a:t>
            </a:r>
            <a:endParaRPr b="1" lang="en-US" sz="13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66"/>
                </a:solidFill>
                <a:latin typeface="Arial Narrow"/>
              </a:rPr>
              <a:t>Типичные замечания, которые не были приняты</a:t>
            </a:r>
            <a:r>
              <a:rPr b="1" lang="ru-RU" sz="1200" spc="-1" strike="noStrike">
                <a:solidFill>
                  <a:srgbClr val="003366"/>
                </a:solidFill>
                <a:latin typeface="Arial Narrow"/>
              </a:rPr>
              <a:t>:</a:t>
            </a:r>
            <a:endParaRPr b="1" lang="en-US" sz="1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66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 Narrow"/>
              </a:rPr>
              <a:t>устранить противоречия с требованиями отдельных пунктов ПБ 12-529-03, СНиП 42-01-2002 и СП 42-101-2003 (противоречия связаны с актуализацией этих требований)</a:t>
            </a:r>
            <a:endParaRPr b="1" lang="en-US" sz="1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66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 Narrow"/>
              </a:rPr>
              <a:t>включить дополнительные требования, (в том числе организационные и экономические), выходящие за рамки области применения проекта стандарта</a:t>
            </a:r>
            <a:endParaRPr b="1" lang="en-US" sz="1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66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 Narrow"/>
              </a:rPr>
              <a:t>внести изменения в оформление проекта стандарта не соответствующие ГОСТ Р 1.5-2004</a:t>
            </a:r>
            <a:endParaRPr b="1" lang="en-US" sz="1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66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 Narrow"/>
              </a:rPr>
              <a:t>дополнить  отдельные пункты проекта стандарта требованиями, аналогичными требованиям действующих нормативных документов, в том числе в СП 62.13330.2011</a:t>
            </a:r>
            <a:endParaRPr b="1" lang="en-US" sz="1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66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 Narrow"/>
              </a:rPr>
              <a:t>дополнить технически необоснованными ограничениями по применению отдельных типов стальных труб</a:t>
            </a:r>
            <a:endParaRPr b="1" lang="en-US" sz="1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66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 Narrow"/>
              </a:rPr>
              <a:t>исключить из проекта стандарта требования, которых ранее не было в нормативных документах</a:t>
            </a:r>
            <a:endParaRPr b="1" lang="en-US" sz="1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66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 Narrow"/>
              </a:rPr>
              <a:t>ввести требование о необходимости 100 % защиты стальных подземных газопроводов от коррозии </a:t>
            </a:r>
            <a:endParaRPr b="1" lang="en-US" sz="1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66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 Narrow"/>
              </a:rPr>
              <a:t>расширить сортамент стальных труб, за счет применения труб, несоответствующих требованиям СП 62.13330-2011</a:t>
            </a:r>
            <a:endParaRPr b="1" lang="en-US" sz="1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66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 Narrow"/>
              </a:rPr>
              <a:t>включение ссылок на стандарты, которые только предполагается разработать</a:t>
            </a:r>
            <a:endParaRPr b="1" lang="en-US" sz="1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81" name="Прямоугольник 3"/>
          <p:cNvSpPr/>
          <p:nvPr/>
        </p:nvSpPr>
        <p:spPr>
          <a:xfrm>
            <a:off x="2914560" y="6400800"/>
            <a:ext cx="598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седание ТК 23 Санкт-Петербург,  12 сентября 2012 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158560" y="304560"/>
            <a:ext cx="698508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ГОСТ Р «Системы газораспределительные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бования к сетям газораспределения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. Часть 3. Реконструкция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8915400" cy="49053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181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181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 Narrow"/>
              </a:rPr>
              <a:t>Разработан с учетом действующих требований  к  процессу реконструкции зданий и сооружений.</a:t>
            </a:r>
            <a:endParaRPr b="1" lang="en-US" sz="1400" spc="-1" strike="noStrike">
              <a:solidFill>
                <a:srgbClr val="003366"/>
              </a:solidFill>
              <a:latin typeface="Arial Narrow"/>
            </a:endParaRPr>
          </a:p>
          <a:p>
            <a:pPr marL="181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 Narrow"/>
              </a:rPr>
              <a:t>Устанавливает требования:</a:t>
            </a:r>
            <a:endParaRPr b="1" lang="en-US" sz="1400" spc="-1" strike="noStrike">
              <a:solidFill>
                <a:srgbClr val="003366"/>
              </a:solidFill>
              <a:latin typeface="Arial Narrow"/>
            </a:endParaRPr>
          </a:p>
          <a:p>
            <a:pPr marL="181080" indent="3618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 Narrow"/>
              </a:rPr>
              <a:t>к  реконструкции сети газораспределения как в целом, так и по отдельным участкам и сооружениям</a:t>
            </a:r>
            <a:endParaRPr b="1" lang="en-US" sz="1400" spc="-1" strike="noStrike">
              <a:solidFill>
                <a:srgbClr val="003366"/>
              </a:solidFill>
              <a:latin typeface="Arial Narrow"/>
            </a:endParaRPr>
          </a:p>
          <a:p>
            <a:pPr marL="181080" indent="3618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 Narrow"/>
              </a:rPr>
              <a:t>к процессу проектирования , выполнения строительно-монтажных работ  в условиях приближения к сетям инженерно-технического обеспечения и дальнейшей эксплуатации сети газораспределения после реконструкции</a:t>
            </a:r>
            <a:endParaRPr b="1" lang="en-US" sz="1400" spc="-1" strike="noStrike">
              <a:solidFill>
                <a:srgbClr val="003366"/>
              </a:solidFill>
              <a:latin typeface="Arial Narrow"/>
            </a:endParaRPr>
          </a:p>
          <a:p>
            <a:pPr marL="181080" indent="3618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 Narrow"/>
              </a:rPr>
              <a:t>к консервации или ликвидации отдельных участков сети газораспределения</a:t>
            </a:r>
            <a:endParaRPr b="1" lang="en-US" sz="1400" spc="-1" strike="noStrike">
              <a:solidFill>
                <a:srgbClr val="003366"/>
              </a:solidFill>
              <a:latin typeface="Arial Narrow"/>
            </a:endParaRPr>
          </a:p>
          <a:p>
            <a:pPr marL="181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 Narrow"/>
              </a:rPr>
              <a:t>Впервые </a:t>
            </a:r>
            <a:r>
              <a:rPr b="1" lang="ru-RU" sz="1400" spc="-1" strike="noStrike">
                <a:solidFill>
                  <a:srgbClr val="003366"/>
                </a:solidFill>
                <a:latin typeface="Arial Narrow"/>
              </a:rPr>
              <a:t>в России введет классификацию технологий реконструкции стального газопровода</a:t>
            </a:r>
            <a:endParaRPr b="1" lang="en-US" sz="1400" spc="-1" strike="noStrike">
              <a:solidFill>
                <a:srgbClr val="003366"/>
              </a:solidFill>
              <a:latin typeface="Arial Narrow"/>
            </a:endParaRPr>
          </a:p>
          <a:p>
            <a:pPr marL="181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 Narrow"/>
              </a:rPr>
              <a:t>по характерным признакам:</a:t>
            </a:r>
            <a:endParaRPr b="1" lang="en-US" sz="1400" spc="-1" strike="noStrike">
              <a:solidFill>
                <a:srgbClr val="003366"/>
              </a:solidFill>
              <a:latin typeface="Arial Narrow"/>
            </a:endParaRPr>
          </a:p>
          <a:p>
            <a:pPr marL="181080" indent="3618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 Narrow"/>
              </a:rPr>
              <a:t>восстановление рабочих свойств стального газопровода</a:t>
            </a:r>
            <a:endParaRPr b="1" lang="en-US" sz="1400" spc="-1" strike="noStrike">
              <a:solidFill>
                <a:srgbClr val="003366"/>
              </a:solidFill>
              <a:latin typeface="Arial Narrow"/>
            </a:endParaRPr>
          </a:p>
          <a:p>
            <a:pPr marL="181080" indent="3618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 Narrow"/>
              </a:rPr>
              <a:t>полное разрушение  существующего газопровода и прокладка нового газопровода</a:t>
            </a:r>
            <a:endParaRPr b="1" lang="en-US" sz="1400" spc="-1" strike="noStrike">
              <a:solidFill>
                <a:srgbClr val="003366"/>
              </a:solidFill>
              <a:latin typeface="Arial Narrow"/>
            </a:endParaRPr>
          </a:p>
          <a:p>
            <a:pPr marL="181080" indent="3618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 Narrow"/>
              </a:rPr>
              <a:t>использование существующего трубопровода в качестве направляющего каркаса при протяжке нового газопровода</a:t>
            </a:r>
            <a:endParaRPr b="1" lang="en-US" sz="1400" spc="-1" strike="noStrike">
              <a:solidFill>
                <a:srgbClr val="003366"/>
              </a:solidFill>
              <a:latin typeface="Arial Narrow"/>
            </a:endParaRPr>
          </a:p>
          <a:p>
            <a:pPr marL="181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 Narrow"/>
              </a:rPr>
              <a:t>Впервые</a:t>
            </a:r>
            <a:r>
              <a:rPr b="1" lang="ru-RU" sz="1400" spc="-1" strike="noStrike">
                <a:solidFill>
                  <a:srgbClr val="003366"/>
                </a:solidFill>
                <a:latin typeface="Arial Narrow"/>
              </a:rPr>
              <a:t> в России на нормативном уровне устанавливает преимущества и недостатки </a:t>
            </a:r>
            <a:endParaRPr b="1" lang="en-US" sz="1400" spc="-1" strike="noStrike">
              <a:solidFill>
                <a:srgbClr val="003366"/>
              </a:solidFill>
              <a:latin typeface="Arial Narrow"/>
            </a:endParaRPr>
          </a:p>
          <a:p>
            <a:pPr marL="18108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 Narrow"/>
              </a:rPr>
              <a:t>применения </a:t>
            </a:r>
            <a:r>
              <a:rPr b="1" lang="ru-RU" sz="1600" spc="-1" strike="noStrike">
                <a:solidFill>
                  <a:srgbClr val="0000ff"/>
                </a:solidFill>
                <a:latin typeface="Arial Narrow"/>
              </a:rPr>
              <a:t>8</a:t>
            </a:r>
            <a:r>
              <a:rPr b="1" lang="ru-RU" sz="1400" spc="-1" strike="noStrike">
                <a:solidFill>
                  <a:srgbClr val="003366"/>
                </a:solidFill>
                <a:latin typeface="Arial Narrow"/>
              </a:rPr>
              <a:t> технологий реконструкции  газопровода</a:t>
            </a:r>
            <a:endParaRPr b="1" lang="en-US" sz="1400" spc="-1" strike="noStrike">
              <a:solidFill>
                <a:srgbClr val="003366"/>
              </a:solidFill>
              <a:latin typeface="Arial Narrow"/>
            </a:endParaRPr>
          </a:p>
          <a:p>
            <a:pPr marL="181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 Narrow"/>
              </a:rPr>
              <a:t>Первая редакция проекта стандарта проходит стадию завершения публичного обсуждения </a:t>
            </a:r>
            <a:endParaRPr b="1" lang="en-US" sz="1400" spc="-1" strike="noStrike">
              <a:solidFill>
                <a:srgbClr val="003366"/>
              </a:solidFill>
              <a:latin typeface="Arial Narrow"/>
            </a:endParaRPr>
          </a:p>
          <a:p>
            <a:pPr marL="18108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 Narrow"/>
              </a:rPr>
              <a:t>и формирования окончательной редакции</a:t>
            </a:r>
            <a:endParaRPr b="1" lang="en-US" sz="1400" spc="-1" strike="noStrike">
              <a:solidFill>
                <a:srgbClr val="003366"/>
              </a:solidFill>
              <a:latin typeface="Arial Narrow"/>
            </a:endParaRPr>
          </a:p>
          <a:p>
            <a:pPr marL="181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181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84" name="Прямоугольник 3"/>
          <p:cNvSpPr/>
          <p:nvPr/>
        </p:nvSpPr>
        <p:spPr>
          <a:xfrm>
            <a:off x="2286000" y="6400800"/>
            <a:ext cx="66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седание ТК 23 Санкт-Петербург,  12 сентября 2012 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1:37:47Z</dcterms:created>
  <dc:creator>Pirit</dc:creator>
  <dc:description/>
  <dc:language>en-US</dc:language>
  <cp:lastModifiedBy>Zemliakov_Sergey</cp:lastModifiedBy>
  <dcterms:modified xsi:type="dcterms:W3CDTF">2012-11-15T06:44:09Z</dcterms:modified>
  <cp:revision>205</cp:revision>
  <dc:subject/>
  <dc:title> </dc:title>
</cp:coreProperties>
</file>